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B281-E37F-4A72-B9CF-4B0AAE16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2218-5431-4B86-BDB4-F657FFFE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BEDB-12E8-4927-9B73-8F163054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0A4F-2FB2-4E0A-8BAF-C48C2470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F243-1DD2-47B9-AFA1-01B4191C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43C9-8EBB-4C10-B810-DD95893E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BFE1-A809-468F-B113-9ACA3A97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5F97-F5A0-4962-BDD3-229D3566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DE15-865D-421C-9CCE-C6FF181D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057D-8DC7-4C41-B11F-52C3412F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37A6-916B-4E92-8C55-1F1D6680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CF7C-A369-40C2-8214-C07557A9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63DC-C024-4040-9F5C-5708B20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5000-9F7B-4D97-8E6D-7F33BF29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5680-84DB-465D-B1DB-058B17BB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CB3F-5D55-4423-9342-D2D73BAD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CC98-7080-4EE1-ABE2-85E8E48F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9757-C2E2-41CA-8947-BA96B7EE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2724-37FC-4CE6-A764-4072D75A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5D01-0F0F-44ED-B527-11547DFD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3685-9A21-4425-AE11-2A6CDEC2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82E4C-23A4-4319-8477-8197CBDF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837C-C67A-447F-980A-919DFC68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14E9-E9B9-44F8-B9DE-E7D3EFED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7A90A-2F33-4CB7-AFFA-FE7D91AA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9FE93-0816-4F45-8994-7FE430D4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4C409-91A2-4CAB-A4BA-3CAAEADE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3EF8-0182-4C6A-ABCF-8F22371C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03788-1597-4C7E-9C1B-34BA7F3E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5470-D49D-42B0-AA87-F681C9E0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5C9E0-3506-4E30-8F8E-9464E8C9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0307-E34D-43FB-A558-BF462DE7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C10E5-B2E4-42B9-8D5D-BAFC6360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47A0-BFC1-41D5-AD65-0DB8DA8D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804AD-E1BA-43E6-A7EB-61A02914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18EAD-B41C-4EC1-A0E1-65351F3E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315B7-0102-4771-B85F-DA05E84C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88DF-07E1-4A09-A905-FDE681AD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401E-9741-4A36-A08F-597461AD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79AA7-97DA-40F2-8D38-62CB03AA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2137C-9539-478F-B6AF-B722936B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8B950-E592-4E43-9C08-51A14637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B406E-0FED-48DC-B48F-8438E24E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46C28-7CEE-49E3-91BC-EBDE6E9F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7603-86DA-4F4A-855C-A1E34C00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1CADC-2881-43AC-9FE9-2E7E85A0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EC738-73E2-4067-9608-50B3D0FD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BC54-3EA0-4409-9B36-D36D76C0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80AAD-200B-42C2-8DD9-1E187A33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6DA8D-479C-45B8-9853-B15E220C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416F4-E5E3-41E7-825B-D111061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C7A66-6E77-4A36-BDEB-8687F5B5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45073-B17F-427B-9AF2-B22C2A47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C6C4B-57D4-4A40-988E-665E4633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28B58-C5A0-40DA-AECA-24906A3B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9BDF-9E8E-43FB-B2E0-172CB73D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71169-E97A-4A66-9503-ADE20D6C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7150C-9796-482E-96D6-02F1A50D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EBF4-86B6-48B8-AE96-CFC901AB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670BE-EFF3-4591-B8E8-618EA68A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46FA9-05E6-4F78-8263-1AAC0B4E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24465-6893-4252-BC83-950BAAF7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6AC27-ED77-48E7-A534-4C3425FD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8FBFD-1718-4A55-962C-BEB92300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791CA-2017-40C4-AA23-137EF8C1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DA8A9-1218-4B49-97E5-EEA937E5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3CD5-E0BF-4AC7-AB5F-6DB5BE72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865E8-3D58-41DB-947A-FF5A1388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1F35-3F16-408F-A219-2C50C385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27065-8624-4952-BE61-C351E063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4C46E-7C7A-4CA0-A09E-D053EC5A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4A72F-88EF-4457-AB21-7F640B43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E4DCD-3AB5-4E9C-B456-FD714B08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DBAC7-1943-48BF-AD1E-B57EFF3D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2EC15-EF7D-4A2A-A436-993CC78E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DA61E-0364-4DFF-A6D7-2751B923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0234F-D6A9-433F-A874-7E4F7045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EACD5-798E-4F49-86C9-E707188B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900B5-F4DA-43FE-902F-C2ACDDBC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DA005-4F06-427A-92D0-12A376E5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A2600-0F60-466D-B9C4-242A921E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239CB-6ECC-48D1-8714-1AA0A8C6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937C7-EC11-4083-AF05-6C1B2D3E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C2146-D00B-44E0-B5B9-84D60CDE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68F70-D4CD-4E99-BB10-3CF6B6C2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74058-8759-466F-994A-5D069352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AFEA6-D63B-4056-BA6E-C7623B73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DD365-AB8B-49BF-8FD2-A085CAE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6B79-43E4-4896-9B92-D09F516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83EEE-C0E0-4625-BDAD-F6BF0D13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6F74F-4C88-4677-8000-3511520A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A6605-A222-4A35-BE97-AF3014DA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B188-FCC8-475B-8B8F-9FA240B0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9BECB-73D6-47F0-A824-45CF84B5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96B06-E077-472E-8DEC-068AD4C1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93601-D0C1-4DAC-BFBB-70D336FE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116E-A41B-488F-96CC-8E54B5DE7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E458-C41C-4869-865A-586FF0CE21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0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1FFE-14FF-4057-A561-51E2545C0E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E4FD-E759-4583-8D67-D2E691F8F8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02CD-9114-4347-A3FD-1234D73D9A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503F-541B-46A5-9DE3-D37063881C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4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5515-B1AF-49F2-B134-8908E6ED49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19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614B-DA80-497E-ABD8-416F77AAF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911- A Call for Help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ief Gina Colat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erial Grove Police Depar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764080" cy="1981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1727280" cy="1863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3200400" y="609480"/>
            <a:ext cx="18860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30696E-006 C 0.02014 0.00046 0.04045 0.00139 0.06059 0.00139 C 0.07101 0.00139 0.03959 0.00069 0.02917 1.30696E-006 C 0.01754 -0.0007 0.0059 -0.00324 -0.00573 -0.00463 C -0.00903 -0.00509 -0.0125 -0.00532 -0.0158 -0.00602 C -0.01805 -0.00648 -0.02482 -0.00764 -0.02257 -0.00764 C 0.00816 -0.00764 0.03889 -0.00093 0.06962 0.00139 C 0.0967 0.00532 0.08472 0.00393 0.11441 0.0074 C 0.11823 0.00786 0.1033 0.00601 0.1033 0.00601 C 0.08334 -0.00093 0.0632 -0.00046 0.04271 -0.00463 C 0.02014 -0.00926 -0.00208 -0.01805 -0.02482 -0.01943 C -0.05851 -0.02128 -0.0526 -0.02082 -0.08993 -0.02406 C -0.09444 -0.02452 -0.10798 -0.02545 -0.10347 -0.02545 C -0.09705 -0.02545 -0.0908 -0.02452 -0.08437 -0.02406 C -0.05955 -0.01897 -0.03524 -0.01596 -0.01024 -0.01342 C -0.00503 -0.01296 0.00035 -0.01249 0.00556 -0.01203 C 0.01459 -0.01111 0.04149 -0.00787 0.03247 -0.00902 C -0.02101 -0.01619 0.03368 -0.00902 -0.00347 -0.01342 C -0.00764 -0.01388 -0.01163 -0.01434 -0.0158 -0.01504 C -0.01996 -0.01573 -0.02812 -0.01805 -0.02812 -0.01805 C -0.02604 -0.03031 -0.02326 -0.02938 -0.01458 -0.03447 C 0.00608 -0.0465 0.01615 -0.04927 0.03924 -0.05089 C 0.06146 -0.05043 0.11424 -0.06223 0.14149 -0.03748 C 0.14549 -0.01735 0.1224 -0.00579 0.11111 -0.00301 C 0.10625 -0.00185 0.10122 -0.00208 0.09636 -0.00162 C 0.03715 -0.00579 0.01268 -0.01619 -0.04722 -0.03886 C -0.06632 -0.04604 -0.07083 -0.04812 -0.08663 -0.05853 C -0.08923 -0.06038 -0.09184 -0.06223 -0.09444 -0.06431 C -0.09566 -0.06523 -0.09913 -0.06732 -0.09774 -0.06732 C -0.07778 -0.06732 -0.05555 -0.05806 -0.03594 -0.0539 C -0.000350000000000003 -0.04627 0.03507 -0.04233 0.07066 -0.03609 C 0.0441 -0.02845 0.07205 -0.03609 0.00226 -0.03308 C -0.00069 -0.03285 -0.00972 -0.03123 -0.00677 -0.03146 C 0.00521 -0.03216 0.01719 -0.03354 0.02917 -0.03447 C 0.06077 -0.03378 0.08941 -0.03378 0.12014 -0.03007 C 0.13906 -0.02475 0.10226 -0.01805 0.10226 -0.01805 C 0.07743 -0.01365 0.05781 -0.01388 0.03143 -0.00602 C 0.02656 -0.00463 0.0217 -0.00324 0.01684 -0.00162 C 0.01389 -0.0007 0.01077 0.00023 0.00781 0.00139 C 0.00677 0.00185 0.0033 0.00301 0.00452 0.00301 C 0.03403 0.00162 0.06285 -0.00463 0.09202 -0.01041 C 0.1033 -0.01272 0.11441 -0.01805 0.1257 -0.01805 C 0.12726 -0.01805 0.12257 -0.01712 0.12136 -0.01643 C 0.11181 -0.01203 0.10261 -0.0074 0.09323 -0.00301 C 0.08577 0.00069 0.07743 0.00069 0.06962 0.00301 C 0.03351 0.01388 0.05104 0.01156 0.01233 0.01943 C -0.00191 0.0222 -0.01614 0.02429 -0.03038 0.02683 C -0.03333 0.02729 -0.03941 0.02845 -0.03941 0.02845 C -0.02361 0.01457 -0.03524 0.02336 -0.00121 0.01203 C 0.02952 0.00185 0.05972 -0.00417 0.09097 -0.00902 C 0.07743 -0.0037 0.06215 -0.00208 0.04827 1.30696E-006 C 0.04306 -0.00093 0.03715 0.00046 0.03247 -0.00301 C 0.03056 -0.0044 0.03611 -0.00671 0.0382 -0.00764 C 0.04618 -0.01111 0.05452 -0.01296 0.06285 -0.01504 C 0.08229 -0.0199 0.10226 -0.02267 0.1224 -0.02406 C 0.12674 -0.02244 0.1375 -0.02522 0.13577 -0.01943 C 0.13403 -0.01272 0.12518 -0.01758 0.12014 -0.01643 C 0.11285 -0.01458 0.1059 -0.01203 0.09879 -0.01041 C 0.06511 -0.00301 0.03143 0.00509 -0.00226 0.01203 C 0.01302 0.00439 0.02899 1.30696000000003E-006 0.04497 -0.00463 C 0.08577 -0.01689 0.06459 -0.01365 0.08976 -0.01643 C 0.10851 -0.02175 0.07552 -0.01388 0.07292 -0.01342 C 0.0533 -0.00486 0.07205 -0.01272 0.05382 -0.00602 C 0.04861 -0.00417 0.0434 -0.00208 0.0382 1.30696E-006 C 0.03698 0.00046 0.03472 0.00139 0.03472 0.00139 C 0.04688 -0.01966 0.07882 -0.03239 0.09531 -0.04187 C 0.10816 -0.04927 0.10868 -0.04812 0.1191 -0.05853 C 0.12084 -0.06015 0.1257 -0.06431 0.12361 -0.06431 C 0.11372 -0.06431 0.09479 -0.03378 0.09097 -0.02707 C 0.0757 -0.000230000000000001 0.06163 0.02776 0.04705 0.05528 C 0.0349 0.07818 0.00955 0.15637 0.00226 0.18112 C -0.02135 0.26093 -0.03628 0.34143 -0.04948 0.42517 C -0.05104 0.452 -0.05382 0.47883 -0.05399 0.5059 C -0.05451 0.59542 -0.05694 0.67615 -0.02708 0.75595 C -0.0191 0.77747 -0.01476 0.79273 0.00226 0.80245 C 0.00903 0.80615 0.01649 0.80638 0.02361 0.80846 C 0.10816 0.79181 0.16597 0.68401 0.25278 0.67522 C 0.2882 0.66759 0.27587 0.67083 0.31337 0.66019 C 0.31806 0.6588 0.32795 0.65579 0.32795 0.65579 C 0.34983 0.64168 0.37431 0.62665 0.39097 0.60189 C 0.41233 0.5702 0.38403 0.61161 0.4 0.58524 C 0.40538 0.57622 0.41163 0.56766 0.41563 0.55679 C 0.4224 0.53689 0.42518 0.51654 0.42899 0.49549 C 0.42952 0.44298 0.42952 0.3907 0.43004 0.33819 C 0.43038 0.32755 0.43143 0.31575 0.43594 0.30696 C 0.43698 0.30095 0.43785 0.29701 0.44045 0.29192 C 0.44149 0.28684 0.44254 0.2829 0.44479 0.27851 C 0.44757 0.26717 0.45226 0.257 0.45834 0.24844 C 0.4599 0.24242 0.46719 0.2334 0.46719 0.2334 C 0.46945 0.22392 0.46632 0.23456 0.47274 0.22299 C 0.47361 0.22137 0.47483 0.21397 0.47518 0.21258 C 0.47552 0.20564 0.47552 0.19847 0.47639 0.19153 C 0.47743 0.18251 0.48177 0.17441 0.4842 0.16609 C 0.49271 0.13555 0.50486 0.10594 0.51233 0.07471 C 0.51788 0.05158 0.52066 0.02544 0.52795 0.00301 C 0.53559 -0.02059 0.54254 -0.04418 0.55278 -0.06593 C 0.55729 -0.07564 0.5559 -0.07264 0.55955 -0.08536 C 0.5599 -0.08675 0.56181 -0.08999 0.56059 -0.08999 C 0.5592 -0.08999 0.55903 -0.08698 0.55834 -0.08536 C 0.55747 -0.07981 0.55781 -0.07911 0.55504 -0.07495 C 0.55295 -0.07171 0.54827 -0.06593 0.54827 -0.06593 C 0.54584 -0.05714 0.55139 -0.05991 0.55729 -0.05853 C 0.55122 -0.06176 0.54514 -0.06338 0.53924 -0.06732 C 0.53889 -0.06894 0.53768 -0.07056 0.5382 -0.07194 C 0.53854 -0.07287 0.54827 -0.08096 0.53924 -0.07333 C 0.5382 -0.07379 0.53559 -0.07356 0.53594 -0.07495 C 0.53646 -0.07703 0.54219 -0.07796 0.54045 -0.07796 C 0.53837 -0.07796 0.53646 -0.07634 0.53472 -0.07495 C 0.53299 -0.07379 0.52847 -0.07148 0.53021 -0.07032 C 0.53229 -0.06894 0.53698 -0.07333 0.53698 -0.07333 C 0.53143 -0.07426 0.52535 -0.07333 0.52014 -0.07634 C 0.51858 -0.07726 0.52274 -0.07911 0.52361 -0.08096 C 0.52465 -0.08282 0.52483 -0.08513 0.52587 -0.08698 C 0.5283 -0.09161 0.53125 -0.09577 0.53368 -0.1004 C 0.53524 -0.1034 0.53663 -0.10641 0.5382 -0.10942 C 0.53906 -0.11127 0.53594 -0.10618 0.53472 -0.10479 C 0.53299 -0.10271 0.5309 -0.10109 0.52917 -0.09878 C 0.52257 -0.08999 0.51476 -0.08351 0.50781 -0.07495 C 0.50469 -0.07102 0.49879 -0.06292 0.49879 -0.06292 C 0.49983 -0.07356 0.50191 -0.08767 0.50556 -0.09739 C 0.50452 -0.09831 0.50365 -0.10063 0.50226 -0.1004 C 0.49584 -0.09924 0.49722 -0.09554 0.4941 -0.09137 C 0.49063 -0.08675 0.48715 -0.08189 0.48316 -0.07796 C 0.47483 -0.05991 0.48229 -0.07749 0.4842 -0.08096 C 0.48386 -0.07888 0.48316 -0.07703 0.48316 -0.07495 C 0.48316 -0.06778 0.48195 -0.05922 0.48524 -0.0539 C 0.4908 -0.04511 0.5007 -0.0421 0.50781 -0.03609 C 0.53108 -0.03748 0.55313 -0.04326 0.57639 -0.0465 C 0.60452 -0.05043 0.63229 -0.05367 0.66059 -0.05691 C 0.66667 -0.07981 0.65972 -0.09461 0.64827 -0.1078 C 0.64462 -0.11196 0.64323 -0.11636 0.63924 -0.11983 C 0.63611 -0.12607 0.63351 -0.12862 0.62795 -0.13024 C 0.62535 -0.12977 0.62222 -0.13116 0.62014 -0.12885 C 0.61858 -0.12723 0.62483 -0.11589 0.6191 -0.12723 C 0.62309 -0.14527 0.63542 -0.13556 0.64931 -0.13486 C 0.65834 -0.13 0.66823 -0.12908 0.67639 -0.12121 C 0.67934 -0.11844 0.68195 -0.11636 0.6842 -0.11242 C 0.68594 -0.10965 0.68872 -0.1034 0.68872 -0.1034 C 0.68993 -0.09785 0.69097 -0.09253 0.69202 -0.08698 C 0.69097 -0.0687 0.69427 -0.05968 0.68195 -0.0539 C 0.67969 -0.05089 0.67743 -0.04789 0.675 -0.04488 C 0.67413 -0.04349 0.67188 -0.04048 0.67188 -0.04048 C 0.66788 -0.02591 0.66632 -0.0044 0.67188 0.00902 C 0.67604 0.01943 0.67865 0.0229 0.6809 0.03446 C 0.68038 0.05783 0.68715 0.09391 0.66511 0.10317 C 0.65521 0.11381 0.64288 0.12977 0.63594 0.14365 C 0.62917 0.15706 0.6257 0.17372 0.6191 0.18714 C 0.61667 0.20217 0.61806 0.19616 0.61563 0.20495 C 0.61354 0.23317 0.61493 0.2563 0.6224 0.28152 C 0.62518 0.3021 0.63177 0.32107 0.63594 0.3412 C 0.63768 0.36502 0.63733 0.38376 0.62691 0.40273 C 0.62448 0.41291 0.6184 0.41568 0.61337 0.42355 C 0.59219 0.45686 0.55087 0.44969 0.5224 0.45061 C 0.50695 0.45524 0.49167 0.46195 0.47639 0.46703 C 0.46615 0.47536 0.45504 0.4786 0.44479 0.48647 C 0.42552 0.50173 0.40938 0.52232 0.39097 0.53898 C 0.37031 0.53527 0.35104 0.52255 0.33143 0.51492 C 0.31875 0.51006 0.30521 0.50798 0.29323 0.5015 C 0.27622 0.49248 0.25886 0.48415 0.24149 0.47606 C 0.23854 0.47467 0.23646 0.47074 0.23368 0.46865 C 0.22153 0.45894 0.20781 0.45223 0.19549 0.44298 C 0.15452 0.41267 0.11007 0.38839 0.07413 0.34721 C 0.0691 0.34143 0.06649 0.33356 0.06285 0.32639 C 0.05799 0.31691 0.05191 0.30858 0.04827 0.29794 C 0.04011 0.27388 0.03334 0.24705 0.02795 0.2216 C 0.02292 0.17071 0.02014 0.12167 0.01788 0.07032 C 0.01702 0.04996 0.01459 0.00902 0.01459 0.00902 C 0.01597 -0.01087 0.01615 -0.03447 0.02465 -0.05251 C 0.03316 -0.07079 0.05104 -0.0812 0.06632 -0.08397 C 0.07969 -0.07171 0.05799 -0.05297 0.05156 -0.04789 C 0.02743 -0.02892 -0.00486 -0.03123 -0.0316 -0.03007 C -0.03298 -0.03054 -0.03715 -0.03031 -0.03594 -0.03146 C -0.02795 -0.03933 -0.00521 -0.03678 0.0033 -0.03748 C 0.04115 -0.04071 0.02743 -0.0391 0.05729 -0.04349 C 0.03941 -0.03701 0.01945 -0.0384 0.00104 -0.03609 C -0.00156 -0.03516 -0.00625 -0.03655 -0.00677 -0.03308 C -0.00729 -0.02984 -0.0026 -0.02869 -5.55556E-007 -0.02845 C 0.01719 -0.0266 0.03438 -0.02753 0.05156 -0.02707 C 0.07379 -0.02822 0.11111 -0.03586 0.13577 -0.03146 C 0.13316 -0.03239 0.12778 -0.031 0.12778 -0.03447 C 0.12778 -0.03817 0.13316 -0.03701 0.13577 -0.03748 C 0.14167 -0.0384 0.14792 -0.0384 0.15382 -0.03886 C 0.13351 -0.02429 0.14844 -0.03216 0.1191 -0.02845 C 0.07917 -0.0236 0.04063 -0.01735 0.00104 -0.01041 C -0.00087 -0.01018 0.00469 -0.01157 0.0066 -0.01203 C 0.01337 -0.01411 0.01997 -0.01712 0.02691 -0.01805 C 0.03854 -0.01943 0.05018 -0.02105 0.06181 -0.02244 C 0.08004 -0.0273 0.09879 -0.03007 0.11667 -0.03609 C 0.10261 -0.0391 0.0882 -0.04372 0.07413 -0.04789 C 0.06615 -0.05413 0.05816 -0.06038 0.06511 -0.07495 C 0.06719 -0.07935 0.07118 -0.08166 0.07413 -0.08536 C 0.07691 -0.0886 0.07882 -0.09276 0.08195 -0.09577 C 0.08698 -0.10086 0.09774 -0.10942 0.09774 -0.10942 C 0.10104 -0.12376 0.08125 -0.1115 0.07865 -0.1108 C 0.06024 -0.10641 0.04149 -0.10572 0.02361 -0.09878 C 0.0224 -0.09785 0.01979 -0.09762 0.02014 -0.09577 C 0.02049 -0.09369 0.02309 -0.09322 0.02465 -0.09276 C 0.0342 -0.08952 0.0441 -0.08837 0.05382 -0.08536 C 0.07882 -0.07773 0.10469 -0.07125 0.1191 -0.04048 C 0.12084 -0.0273 0.11875 -0.01689 0.11563 -0.00463 C 0.10695 -0.09508 0.07865 -0.17904 0.01459 -0.22161 C 0.01198 -0.22022 0.00747 -0.22091 0.0066 -0.21721 C 0.00521 -0.21189 0.01198 -0.18529 0.01337 -0.18113 C 0.01997 -0.16123 0.02952 -0.14666 0.03924 -0.12885 C 0.04219 -0.1233 0.04323 -0.11659 0.04601 -0.1108 C 0.04861 -0.10548 0.05209 -0.10086 0.05504 -0.09577 C 0.06354 -0.08073 0.06493 -0.07634 0.07292 -0.05853 C 0.07413 -0.05598 0.07518 -0.05344 0.07639 -0.05089 C 0.07691 -0.0495 0.07761 -0.04511 0.07743 -0.0465 C 0.07483 -0.06153 0.0757 -0.05714 0.06962 -0.07194 C 0.06302 -0.10826 0.05469 -0.14388 0.04705 -0.17974 C 0.0467 -0.18413 0.04358 -0.19639 0.04601 -0.19316 C 0.04879 -0.18945 0.0474 -0.18321 0.04827 -0.17812 C 0.04931 -0.17257 0.05052 -0.16725 0.05156 -0.1617 C 0.06042 -0.11289 0.06719 -0.06015 0.0842 -0.01504 C 0.0882 -0.0044 0.09323 0.0111 0.10104 0.01781 C 0.11597 0.00601 0.10209 -0.03933 0.09879 -0.05691 C 0.09063 -0.09878 0.07917 -0.13903 0.06511 -0.17812 C 0.06129 -0.18876 0.05261 -0.21768 0.04271 -0.226 C 0.04722 -0.17187 0.06215 -0.08952 0.07743 -0.03748 C 0.08872 0.000919999999999997 0.10122 0.05251 0.12465 0.08374 C 0.12674 0.08327 0.13038 0.08512 0.13143 0.08235 C 0.13472 0.07356 0.12934 0.02591 0.12917 0.02382 C 0.12622 -0.0081 0.12257 -0.04187 0.11771 -0.07333 C 0.11545 -0.08906 0.11181 -0.10433 0.10868 -0.11983 C 0.10816 -0.12376 0.10643 -0.13186 0.10643 -0.13186 C 0.10486 -0.11682 0.10695 -0.10317 0.10868 -0.08837 C 0.11059 -0.05853 0.11181 -0.02938 0.11667 1.30696E-006 C 0.11875 0.0118 0.12031 0.02544 0.12674 0.03446 C 0.12934 0.00532 0.125 -0.0236 0.1224 -0.05251 C 0.11927 -0.08698 0.1191 -0.15406 0.10538 -0.19015 C 0.09948 -0.14782 0.1007 -0.1034 0.10781 -0.06153 C 0.11771 -0.0657 0.11233 -0.06176 0.10868 -0.09137 C 0.10764 -0.10225 0.10417 -0.11289 0.10104 -0.12283 C 0.1 -0.1263 0.09931 -0.13186 0.09531 -0.13186 E">
                                      <p:cBhvr>
                                        <p:cTn id="6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1.31622E-006 C -0.02274 0.0081 -0.04758 -0.00023 -0.07084 -0.00301 C -0.07796 -0.00509 -0.08525 -0.00601 -0.0922 -0.00879 C -0.02517 -0.0118 -0.058 -0.0111 -0.07865 -0.01342 C -0.05643 -0.00671 -0.07831 -0.00856 -0.08543 -0.0074 C -0.0981 -0.00786 -0.11095 -0.00717 -0.12362 -0.00879 C -0.12501 -0.00925 -0.12154 -0.01133 -0.12032 -0.0118 C -0.11511 -0.01388 -0.1099 -0.01573 -0.10452 -0.01642 C -0.0955 -0.01758 -0.08664 -0.01897 -0.07761 -0.02082 C -0.09306 -0.01226 -0.1106 -0.00879 -0.12692 -0.00439 C -0.13143 -0.00324 -0.13595 -0.00162 -0.14046 -1.31622E-006 C -0.14306 0.00069 -0.14567 0.00093 -0.14827 0.00162 C -0.14949 0.00185 -0.15279 0.0037 -0.15175 0.00301 C -0.13543 -0.00578 -0.11633 -0.00786 -0.09897 -0.0118 C -0.08543 -0.0148 -0.0849 -0.01434 -0.0731 -0.01642 C -0.07084 -0.01689 -0.06477 -0.02012 -0.06633 -0.01781 C -0.06806 -0.01504 -0.07154 -0.01573 -0.07414 -0.0148 C -0.07796 -0.01365 -0.08161 -0.01295 -0.08543 -0.0118 C -0.08872 -0.01087 -0.0922 -0.00995 -0.0955 -0.00879 C -0.0981 -0.00786 -0.10088 -0.00694 -0.10348 -0.00601 C -0.10452 -0.00555 -0.108 -0.00416 -0.10678 -0.00439 C -0.10036 -0.00555 -0.09411 -0.00763 -0.08768 -0.00879 C -0.08282 -0.00971 -0.07796 -0.00971 -0.0731 -0.01041 C -0.06824 -0.0111 -0.06338 -0.01249 -0.05852 -0.01342 C -0.05504 -0.01133 -0.04619 -0.01157 -0.04826 -0.0074 C -0.05139 -0.00162 -0.05886 -0.00463 -0.06407 -0.00301 C -0.0731 -0.00046 -0.08213 0.00139 -0.09098 0.00463 C -0.09532 0.00625 -0.10782 0.0111 -0.10348 0.01064 C -0.09115 0.00972 -0.07865 0.00856 -0.06633 0.00763 C -0.01337 0.00902 -0.00018 0.00717 -0.03265 0.01504 C -0.0401 0.01874 -0.04479 0.02059 -0.01805 0.01504 C -0.01424 0.01434 -0.01059 0.0118 -0.00678 0.01064 C -0.00383 0.00972 -0.00069 0.00948 0.00225 0.00902 C -0.0283 0.02614 -0.06147 0.0266 -0.09324 0.03747 C -0.07813 0.02036 -0.058 0.01966 -0.03941 0.01365 C 0.04879 -0.01457 -0.0184 0.00463 0.02465 -0.0074 C 0.00433 0.00856 -0.06841 0.01642 -0.07536 0.01804 C -0.08612 0.02036 -0.09706 0.0229 -0.10782 0.02545 C -0.11563 0.0273 -0.12362 0.02915 -0.13143 0.03146 C -0.13525 0.03262 -0.14671 0.03609 -0.14272 0.03609 C -0.11876 0.03609 -0.09098 0.02707 -0.06737 0.02105 C -0.06129 0.01943 -0.05556 0.01666 -0.04949 0.01504 C -0.04619 0.01411 -0.04271 0.01434 -0.03941 0.01365 C -0.03715 0.01319 -0.03038 0.01203 -0.03265 0.01203 C -0.04392 0.01203 -0.05504 0.01319 -0.06633 0.01365 C -0.06893 0.01411 -0.07154 0.01504 -0.07414 0.01504 C -0.07536 0.01504 -0.07761 0.01527 -0.07761 0.01365 C -0.07761 0.0118 -0.07536 0.01157 -0.07414 0.01064 C -0.06737 0.00555 -0.0599 0.00139 -0.05278 -0.00301 C -0.04288 -0.00925 -0.03855 -0.0074 -0.06737 -0.00301 C -0.09272 0.00486 -0.07154 -0.00092 -0.09897 0.00463 C -0.108 0.00648 -0.11685 0.00856 -0.12588 0.01064 C -0.12813 0.0111 -0.13265 0.01203 -0.13265 0.01203 C -0.11615 0.00208 -0.10244 -0.00162 -0.08438 -0.00601 C -0.07119 -0.00925 -0.04496 -0.01642 -0.04496 -0.01642 C -0.04236 -0.01781 -0.03437 -0.02105 -0.03715 -0.02082 C -0.06199 -0.01781 -0.08751 -0.01018 -0.11234 -0.00601 C -0.1172 -0.00509 -0.12206 -0.00439 -0.12692 -0.00301 C -0.1297 -0.00231 -0.1323 -0.00116 -0.1349 -1.31622E-006 C -0.13595 0.00046 -0.13942 0.00162 -0.1382 0.00162 C -0.13161 0.00162 -0.12553 -0.00254 -0.11911 -0.00439 C -0.10175 -0.00948 -0.10244 -0.00879 -0.08438 -0.0118 C -0.07987 -0.01388 -0.07536 -0.01596 -0.07084 -0.01781 C -0.06928 -0.0185 -0.06477 -0.01989 -0.06633 -0.01943 C -0.06928 -0.0185 -0.07258 -0.01804 -0.07536 -0.01642 C -0.07987 -0.01388 -0.08872 -0.00879 -0.08872 -0.00879 C -0.07119 -0.00393 -0.08404 -0.00578 -0.05956 -0.01041 C -0.03385 -0.01527 -0.00781 -0.0185 0.01787 -0.02383 C 0.0085 -0.01989 -0.000529999999999999 -0.01457 -0.01007 -0.0118 C -0.01458 -0.01041 -0.0342 -0.00532 -0.03941 -0.00301 C -0.04392 -0.00092 -0.04826 0.00208 -0.05278 0.00463 C -0.05643 0.00648 -0.06043 0.0074 -0.06407 0.00902 C -0.06563 0.00972 -0.07015 0.01134 -0.06859 0.01203 C -0.06199 0.01434 -0.02743 -0.00069 -0.02587 -0.00162 C -0.02309 -0.00254 -0.02066 -0.00463 -0.01805 -0.00601 C -0.01701 -0.00671 -0.01337 -0.0074 -0.01458 -0.0074 C -0.02066 -0.0074 -0.02656 -0.00648 -0.03265 -0.00601 C -0.03819 -0.00393 -0.04392 -0.00254 -0.04949 -1.31622E-006 C -0.05105 0.00069 -0.05539 0.0044 -0.054 0.00301 C -0.0467 -0.00416 -0.05226 0.00023 -0.04167 -0.00439 C -0.03855 -0.00578 -0.03559 -0.00717 -0.03265 -0.00879 C -0.03109 -0.00971 -0.02639 -0.0118 -0.02813 -0.0118 C -0.0401 -0.0118 -0.05452 -0.00486 -0.06633 -0.00162 C -0.06893 -0.00069 -0.07154 0.00046 -0.07414 0.00162 C -0.0757 0.00208 -0.08039 0.00509 -0.07865 0.00463 C -0.06164 0.00046 -0.04479 -0.00532 -0.02813 -0.0118 C -0.01805 -0.01573 0.00225 -0.02383 0.00225 -0.02383 C 0.0092 -0.03007 0.00815 -0.02822 -0.00904 -0.02544 C -0.01701 -0.02429 -0.02483 -0.0229 -0.03265 -0.02082 C -0.06286 -0.01272 -0.09393 -0.00509 -0.12362 0.00602 C -0.12466 0.00648 -0.12136 0.00509 -0.12032 0.00463 C -0.1165 0.00301 -0.11251 0.00208 -0.10904 -1.31622E-006 C -0.10296 -0.00393 -0.09723 -0.00879 -0.09098 -0.0118 C -0.08994 -0.01226 -0.08647 -0.01342 -0.08768 -0.01342 C -0.08959 -0.01342 -0.09515 -0.0118 -0.09324 -0.0118 C -0.08959 -0.0118 -0.08577 -0.01272 -0.08213 -0.01342 C -0.07796 -0.01434 -0.06963 -0.01642 -0.06963 -0.01642 C -0.07987 -0.00578 -0.07379 -0.01087 -0.0922 -0.00162 C -0.09515 0.00023 -0.09827 0.00162 -0.10122 0.00301 C -0.10244 0.0037 -0.10452 0.00416 -0.10452 0.00602 C -0.10452 0.00763 -0.10227 0.00509 -0.10122 0.00463 C -0.09845 0.00324 -0.09602 0.00139 -0.09324 -1.31622E-006 C -0.07865 -0.00786 -0.07605 -0.00925 -0.06407 -0.0148 C -0.06216 -0.01573 -0.05973 -0.01573 -0.05852 -0.01781 C -0.05747 -0.01943 -0.06164 -0.01712 -0.06303 -0.01642 C -0.06563 -0.01504 -0.06824 -0.01295 -0.07084 -0.0118 C -0.08438 -0.00532 -0.079 -0.00995 -0.09098 -0.00301 C -0.09324 -0.00162 -0.10018 0.00255 -0.09775 0.00162 C -0.08369 -0.00301 -0.07032 -0.01041 -0.05626 -0.0148 C -0.054 -0.0155 -0.06303 -0.0118 -0.06303 -0.0118 C -0.06442 -0.01041 -0.06581 -0.00856 -0.06737 -0.0074 C -0.06911 -0.00601 -0.07136 -0.00578 -0.0731 -0.00439 C -0.08334 0.00393 -0.07015 -0.00301 -0.07987 0.00162 C -0.07727 -0.00532 -0.07918 -0.00324 -0.07536 -0.00601 C 0.04011 0.00717 0.13594 0.01851 0.24722 0.02105 C 0.32674 0.01943 0.38472 0.01758 0.45833 0.00602 C 0.46441 0.00393 0.47031 0.00185 0.47639 -1.31622E-006 C 0.48403 -0.00231 0.4875 -0.00046 0.47517 -0.00301 C 0.41701 -0.00116 0.35903 0.00093 0.30087 0.00463 C 0.28802 0.00416 0.27483 0.0044 0.26181 0.00301 C 0.26042 0.00278 0.25833 0.00185 0.25833 -1.31622E-006 C 0.25833 -0.00601 0.26979 -0.01133 0.27083 -0.0118 C 0.28715 -0.01966 0.30295 -0.02429 0.32014 -0.02683 C 0.33333 -0.03192 0.34583 -0.03516 0.35955 -0.03724 C 0.34288 -0.0185 0.3217 -0.01411 0.30087 -0.00601 C 0.29757 -0.00463 0.2941 -0.00416 0.2908 -0.00301 C 0.28681 -0.00162 0.27865 0.00162 0.27865 0.00162 C 0.28281 -0.00578 0.28733 -0.0081 0.29323 -0.01342 C 0.29549 -0.0155 0.28802 -0.01157 0.28542 -0.01041 C 0.26701 -0.00231 0.27743 -0.00486 0.25504 0.00162 C 0.23663 0.00694 0.21927 0.01319 0.20104 0.01943 C 0.19983 0.01989 0.2033 0.01851 0.20451 0.01804 C 0.21094 0.0155 0.21719 0.01272 0.22361 0.01064 C 0.2474 0.00278 0.27136 -0.00578 0.29549 -0.0118 C 0.29965 -0.01272 0.30382 -0.01365 0.30781 -0.0148 C 0.30903 -0.01527 0.31233 -0.01712 0.31129 -0.01642 C 0.29167 -0.00439 0.27743 -0.00463 0.25504 0.00463 C 0.23247 0.01388 0.24531 0.00879 0.21684 0.01943 C 0.21441 0.02036 0.22118 0.01619 0.22361 0.01504 C 0.22813 0.01295 0.23247 0.01064 0.23698 0.00902 C 0.25017 0.0044 0.26563 0.00416 0.27743 -0.00601 C 0.27917 -0.00763 0.27309 -0.00393 0.27083 -0.00301 C 0.26354 0.00023 0.25052 0.00278 0.24254 0.00463 C 0.21875 0.01642 0.19288 0.02591 0.16736 0.02845 C 0.13472 0.02637 0.10313 0.02151 0.07083 0.01804 C 0.05243 0.00902 0.03264 0.00763 0.01336 0.00301 C 0.00469 0.00093 -0.00365 -0.00254 -0.01233 -0.00439 C -0.04132 -0.01087 -0.07102 -0.01249 -0.10001 -0.01943 C -0.11442 -0.01781 -0.11598 -0.02059 -0.11806 -0.00301 C -0.11754 0.00902 -0.12032 0.02267 -0.11581 0.03308 C -0.11425 0.03678 -0.11268 0.04094 -0.11008 0.04349 C -0.1073 0.04603 -0.10122 0.0495 -0.10122 0.0495 C -0.0764 0.04765 -0.0698 0.04904 -0.05278 0.02707 C -0.04739 0.00925 -0.04896 0.01735 -0.04722 0.00301 C -0.04775 -0.00601 -0.04758 -0.0155 -0.05053 -0.02383 C -0.06112 -0.05413 -0.08681 -0.07934 -0.11129 -0.08374 C -0.1139 -0.08281 -0.11859 -0.0842 -0.11911 -0.08073 C -0.12119 -0.06593 -0.11859 -0.05089 -0.11806 -0.03585 C -0.11737 -0.01596 -0.11789 0.00255 -0.10574 0.01504 C -0.09376 0.01087 -0.08803 0.00717 -0.07761 0.00162 C -0.0705 -0.00786 -0.06546 -0.01596 -0.06181 -0.02845 C -0.0639 -0.05343 -0.06025 -0.05806 -0.0764 -0.0613 C -0.08872 -0.05644 -0.08994 -0.05528 -0.09671 -0.04187 C -0.09862 -0.03285 -0.10018 -0.02776 -0.10001 -0.01781 C -0.09966 -0.00624 -0.09931 0.00532 -0.09775 0.01666 C -0.0922 0.05529 -0.06303 0.07495 -0.03819 0.08698 C -0.01215 0.0849 -0.02187 0.08975 -0.01007 0.07495 C -0.00625 0.04233 -0.01771 -0.00879 -0.04619 -0.01781 C -0.06633 -0.02429 -0.05574 -0.02151 -0.07761 -0.02544 C -0.10539 -0.02197 -0.12431 -0.03076 -0.14046 -0.00439 C -0.14011 0.00162 -0.14202 0.00856 -0.13942 0.01365 C -0.13647 0.01943 -0.13056 0.02082 -0.12588 0.02406 C -0.1047 0.03909 -0.0889 0.04858 -0.06529 0.05991 C 0.00208 0.0923 0.07413 0.10109 0.14497 0.10942 C 0.15399 0.11057 0.12691 0.10733 0.11788 0.10641 C 0.11267 0.10595 0.10747 0.10571 0.10226 0.10479 C 0.07101 0.09924 0.03924 0.09739 0.00781 0.09438 C -0.00486 0.09484 -0.01771 0.09461 -0.03038 0.096 C -0.03594 0.09646 -0.03525 0.09924 -0.03941 0.10178 C -0.04687 0.10618 -0.05834 0.10571 -0.06529 0.10641 C -0.07622 0.11103 -0.08647 0.11127 -0.09775 0.11242 C -0.10643 0.1115 -0.11511 0.11127 -0.12362 0.10942 C -0.129 0.10826 -0.13421 0.10548 -0.13942 0.1034 C -0.14202 0.10248 -0.14723 0.10039 -0.14723 0.10039 C -0.15522 0.08975 -0.15973 0.08513 -0.16181 0.07032 C -0.16095 0.05853 -0.16164 0.05667 -0.15626 0.0495 C -0.14011 0.06454 -0.12258 0.07703 -0.10782 0.09438 C -0.10522 0.09739 -0.10782 0.1034 -0.10678 0.1078 C -0.10609 0.11127 -0.10105 0.12168 -0.09897 0.12445 C -0.08629 0.14134 -0.06129 0.14088 -0.04496 0.14226 C -0.03265 0.14342 -0.02015 0.14342 -0.00781 0.14388 C 0.04045 0.14967 0.08854 0.1536 0.13594 0.16771 C 0.1684 0.17742 0.19097 0.18413 0.22014 0.19778 C 0.23004 0.20241 0.23351 0.20449 0.24149 0.2112 C 0.24375 0.21305 0.24826 0.21721 0.24826 0.21721 C 0.2441 0.19963 0.24826 0.21189 0.21684 0.2142 C 0.18611 0.21629 0.15538 0.2186 0.12465 0.22161 C 0.04618 0.23734 -0.01788 0.27574 -0.08994 0.31737 C -0.1356 0.34374 -0.17952 0.37937 -0.21234 0.42979 C -0.21234 0.43003 -0.22015 0.45362 -0.21355 0.4402 C -0.19098 0.45015 -0.18681 0.50775 -0.18213 0.52996 C -0.17605 0.55818 -0.17414 0.61393 -0.17084 0.63475 C -0.15418 0.743 -0.17536 0.6012 -0.16181 0.7053 C -0.15921 0.72542 -0.15661 0.77331 -0.14046 0.78904 C -0.13004 0.77516 -0.13386 0.78163 -0.12813 0.77099 C -0.08838 0.61578 0.00937 0.50451 0.09773 0.39672 C 0.11024 0.38145 0.12396 0.3678 0.13594 0.35184 C 0.14565 0.33889 0.15521 0.3257 0.16511 0.31298 C 0.1717 0.30465 0.17917 0.29748 0.18542 0.28892 C 0.1908 0.28152 0.2 0.26509 0.2 0.26509 C 0.15087 0.44275 0.04636 0.61508 -0.10574 0.62596 C -0.11737 0.62225 -0.129 0.61902 -0.13716 0.60629 C -0.13942 0.60282 -0.14115 0.59866 -0.14272 0.5945 C -0.14532 0.58756 -0.14949 0.57345 -0.14949 0.57345 C -0.15105 0.5561 -0.15383 0.53967 -0.15626 0.52255 C -0.15782 0.51122 -0.158 0.49896 -0.16077 0.48809 C -0.16372 0.44599 -0.14671 0.40713 -0.12918 0.37289 C -0.08369 0.28383 -0.03385 0.19824 0.01336 0.1108 C 0.04201 0.0576 0.04774 0.05575 0.06736 -0.0118 C 0.06823 -0.01504 0.0816 -0.05343 0.07309 -0.04927 C 0.04705 0.04488 0.03472 0.14573 0.01458 0.24266 C 0.01215 0.25422 0.0066 0.26417 0.0033 0.2755 C -0.00574 0.30627 -0.01111 0.34259 -0.02361 0.37127 C -0.02396 0.37335 -0.02361 0.37613 -0.02483 0.37729 C -0.025 0.37752 -0.03125 0.37428 -0.03142 0.37428 C -0.0401 0.36849 -0.05087 0.35924 -0.05852 0.35184 C -0.1073 0.30442 -0.133 0.25584 -0.15626 0.17835 C -0.18786 0.07287 -0.19671 -0.03447 -0.21459 -0.14365 C -0.22188 -0.18829 -0.22918 -0.23294 -0.23942 -0.27689 C -0.25261 -0.3331 -0.23838 -0.32477 -0.26077 -0.33218 C -0.26234 -0.33125 -0.26442 -0.33102 -0.26529 -0.32917 C -0.26581 -0.32778 -0.26425 -0.32639 -0.26407 -0.32477 C -0.26372 -0.32038 -0.26407 -0.31575 -0.26407 -0.31136 L -0.18317 0.1078 C -0.13751 0.16632 -0.09115 0.22369 -0.04619 0.28314 C -0.03819 0.29355 -0.06338 0.26417 -0.07188 0.25469 C -0.07536 0.25075 -0.07675 0.24428 -0.07987 0.23965 C -0.09584 0.21605 -0.11355 0.19315 -0.13039 0.17072 C -0.13456 0.16516 -0.1382 0.15892 -0.14168 0.15267 C -0.14619 0.14458 -0.154 0.12723 -0.154 0.12723 C -0.15522 0.11474 -0.15886 0.09739 -0.14619 0.09739 L 0.7224 0.81448 L -0.18543 0.0421 E">
                                      <p:cBhvr>
                                        <p:cTn id="10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t is f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you need an emergency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li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mergency Medical Personn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disaster occ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rnadoes, earthquakes, flo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079720" cy="28954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162920" y="1523880"/>
            <a:ext cx="1320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712E-006 C -0.01441 0.00972 -0.02865 0.00833 -0.04584 0.01041 C -0.0842 0.01457 -0.0632 0.01272 -0.10886 0.01642 C -0.14827 0.02313 -0.18768 0.02591 -0.22691 0.03262 C -0.2658 0.03979 -0.30365 0.05529 -0.34254 0.05991 C -0.35903 0.05945 -0.37552 0.05922 -0.39219 0.05829 C -0.40052 0.0576 -0.40712 0.04673 -0.41459 0.04349 C -0.41841 0.04187 -0.42986 0.03909 -0.43594 0.03747 C -0.41875 0.02313 -0.37865 0.02128 -0.36407 0.01943 C -0.304 0.0118 -0.2441 0.00925 -0.1842 0.00601 C -0.14375 0.00648 -0.1033 0.00763 -0.06285 0.0074 C 0.15364 0.00601 0.17864 0.00856 0.10139 0.00278 C 0.02725 -0.01018 -0.04723 -0.01666 -0.12118 -0.02845 C -0.23959 -0.04742 -0.35834 -0.07125 -0.47726 -0.07957 C -0.48056 -0.07957 -0.47049 -0.07819 -0.46719 -0.07819 C -0.38282 -0.07726 -0.29792 -0.0768 -0.21337 -0.07634 C -0.16285 -0.07541 -0.11007 -0.07772 -0.05955 -0.07194 C -0.10868 -0.06431 -0.15955 -0.06477 -0.20886 -0.06292 C -0.2382 -0.05829 -0.26632 -0.05367 -0.29306 -0.03609 C -0.29705 -0.02174 -0.29584 -0.02984 -0.27066 -0.03007 C -0.20504 -0.03053 -0.13959 -0.03192 -0.07414 -0.03285 C -0.0592 -0.02359 -0.06302 -0.02753 -0.10539 -0.02244 C -0.11493 -0.02128 -0.21979 -0.01666 -0.22466 -0.01666 C -0.25452 -0.01434 -0.33646 -0.00763 -0.36632 -0.00162 C -0.42292 0.00925 -0.47952 0.02845 -0.53698 0.03447 C -0.55139 0.0303 -0.53021 0.0155 -0.5257 0.0118 C -0.50903 -0.00116 -0.48802 -0.00717 -0.46945 -0.01203 C -0.41615 -0.02706 -0.36111 -0.02961 -0.3066 -0.03285 C -0.25851 -0.03192 -0.2099 -0.03146 -0.16164 -0.03007 C -0.15782 -0.03007 -0.154 -0.0303 -0.15052 -0.02845 C -0.14879 -0.02753 -0.15434 -0.02753 -0.15608 -0.02706 C -0.16302 -0.0266 -0.16945 -0.02614 -0.17622 -0.02568 C -0.29566 -0.03239 -0.41407 -0.04927 -0.53368 -0.05552 C -0.54966 -0.05505 -0.56563 -0.05344 -0.58195 -0.0539 C -0.58316 -0.0539 -0.57969 -0.05644 -0.57865 -0.05691 C -0.57327 -0.05968 -0.56806 -0.0613 -0.56285 -0.06292 C -0.55643 -0.06477 -0.55018 -0.06639 -0.54358 -0.06731 C -0.51025 -0.07356 -0.47726 -0.0805 -0.44375 -0.08235 C -0.43681 -0.08374 -0.43039 -0.08513 -0.42361 -0.08675 C -0.41927 -0.08767 -0.40782 -0.09299 -0.41129 -0.08998 C -0.42448 -0.07772 -0.46493 -0.07587 -0.47952 -0.07333 C -0.52813 -0.06454 -0.5783 -0.06199 -0.6257 -0.04349 C -0.63507 -0.03516 -0.62882 -0.04141 -0.60886 -0.04488 C -0.58976 -0.04835 -0.57327 -0.04881 -0.55382 -0.05089 C -0.52639 -0.05413 -0.49931 -0.05783 -0.47188 -0.0613 C -0.42934 -0.06685 -0.38559 -0.06546 -0.34358 -0.07957 C -0.35139 -0.08304 -0.34479 -0.08073 -0.35938 -0.07819 C -0.37986 -0.07402 -0.38212 -0.07472 -0.40452 -0.07333 C -0.45261 -0.06246 -0.50122 -0.05691 -0.54948 -0.0465 C -0.55052 -0.0465 -0.54705 -0.04742 -0.54601 -0.04788 C -0.54028 -0.04973 -0.53473 -0.05158 -0.529 -0.05251 C -0.51771 -0.05459 -0.50608 -0.05598 -0.49445 -0.05691 C -0.47674 -0.05829 -0.4592 -0.05922 -0.44132 -0.06014 C -0.41927 -0.06107 -0.3974 -0.06199 -0.37535 -0.06292 C -0.14549 -0.05968 0.08402 -0.04927 0.31371 -0.03609 C 0.3158 -0.03562 0.32187 -0.03655 0.32031 -0.03447 C 0.31823 -0.03169 0.31423 -0.03331 0.31128 -0.03285 C 0.29982 -0.03123 0.28819 -0.02938 0.27639 -0.02845 C 0.25277 -0.02706 0.22934 -0.0266 0.20573 -0.02568 C 0.00520999999999999 -0.02753 -0.32153 -0.05182 -0.53802 -0.02568 C -0.53907 -0.02521 -0.54271 -0.02406 -0.54132 -0.02406 C -0.53386 -0.02406 -0.52639 -0.0266 -0.51893 -0.02706 C -0.49549 -0.03239 -0.47205 -0.03377 -0.44827 -0.03747 C -0.36806 -0.03701 -0.28785 -0.03747 -0.20764 -0.03609 C -0.17275 -0.03516 -0.1033 -0.03007 -0.1033 -0.03007 C -0.09914 -0.02938 -0.06198 -0.02383 -0.05261 -0.01943 C -0.06927 -0.01434 -0.08768 -0.01295 -0.10434 -0.01041 C -0.2007 -0.01203 -0.29705 -0.01295 -0.39306 -0.01527 C -0.44341 -0.01619 -0.49358 -0.0148 -0.54358 -0.01943 C -0.55313 -0.02036 -0.52518 -0.02568 -0.51563 -0.02706 C -0.47865 -0.03262 -0.44167 -0.03516 -0.40452 -0.03747 C -0.28073 -0.04603 -0.15747 -0.04997 -0.03351 -0.05251 C -0.02691 -0.05297 -0.00695 -0.05482 -0.01337 -0.0539 C -0.09983 -0.04118 -0.18993 -0.04742 -0.27639 -0.0465 C -0.28525 -0.04603 -0.38386 -0.04187 -0.39879 -0.04048 C -0.41146 -0.03932 -0.42414 -0.03655 -0.43681 -0.03447 C -0.44254 -0.03354 -0.44827 -0.03285 -0.454 -0.03146 C -0.45695 -0.03077 -0.4658 -0.02845 -0.46268 -0.02845 C -0.45348 -0.02938 -0.44427 -0.03192 -0.43473 -0.03285 C -0.42118 -0.03424 -0.40799 -0.03516 -0.39427 -0.03609 C -0.35052 -0.03794 -0.3066 -0.03886 -0.26285 -0.04048 C 0.10191 -0.03562 -0.02587 -0.04835 0.12152 -0.03285 C 0.07534 -0.01342 0.0085 -0.02151 -0.0382 -0.02105 C -0.17709 -0.01943 -0.31598 -0.01897 -0.45486 -0.01804 C -0.48021 -0.01943 -0.50539 -0.01804 -0.53039 -0.02244 C -0.53559 -0.02336 -0.51979 -0.0266 -0.51441 -0.02845 C -0.50365 -0.03215 -0.49289 -0.03701 -0.48195 -0.03886 C -0.45087 -0.04395 -0.41979 -0.04603 -0.38872 -0.04973 C -0.34792 -0.05413 -0.30712 -0.05598 -0.26632 -0.05829 C -0.22327 -0.06084 -0.13681 -0.06431 -0.13681 -0.06431 C -0.0941 -0.06384 -0.05174 -0.06408 -0.00886 -0.06292 C -0.00695 -0.06292 -0.01268 -0.06199 -0.01441 -0.0613 C -0.02014 -0.05922 -0.02535 -0.05505 -0.03143 -0.0539 C -0.04393 -0.05158 -0.05695 -0.05112 -0.06945 -0.05089 C -0.13334 -0.04927 -0.1967 -0.04881 -0.26059 -0.04788 C -0.3382 -0.04488 -0.4158 -0.0465 -0.49306 -0.03886 C -0.51354 -0.03701 -0.53368 -0.03562 -0.55382 -0.03285 C -0.57552 -0.02984 -0.59775 -0.02753 -0.61893 -0.02105 C -0.62101 -0.02059 -0.62466 -0.01712 -0.62466 -0.01943 C -0.62466 -0.01966 -0.61233 -0.0266 -0.60313 -0.02845 C -0.58143 -0.03331 -0.55886 -0.03424 -0.53698 -0.03747 C -0.46181 -0.03701 -0.38646 -0.03701 -0.31111 -0.03609 C -0.29219 -0.03562 -0.27292 -0.0347 -0.254 -0.03285 C -0.22466 -0.03007 -0.16632 -0.02244 -0.16632 -0.02244 C -0.15157 -0.01897 -0.13577 -0.01943 -0.1224 -0.01041 C -0.12101 -0.00948 -0.1217 -0.00671 -0.12118 -0.0044 C -0.2 0.04002 -0.30139 0.03308 -0.38299 0.04048 C -0.43959 0.04534 -0.49445 0.05899 -0.55035 0.06431 C -0.4915 0.04303 -0.42865 0.0458 -0.36841 0.04349 C -0.22691 0.03794 -0.27778 0.04025 -0.06736 0.03747 C -0.04636 0.0384 -0.02518 0.03585 -0.00434 0.04048 C 0.00017 0.04141 -0.0132 0.0458 -0.01771 0.04788 C -0.02622 0.05112 -0.03507 0.05343 -0.04375 0.05529 C -0.05938 0.05876 -0.07518 0.06176 -0.09098 0.06431 C -0.15539 0.07425 -0.22032 0.07518 -0.28525 0.07749 C -0.36077 0.07287 -0.43768 0.07194 -0.51216 0.05529 C -0.50938 0.03932 -0.46875 0.03956 -0.46407 0.03886 C -0.27691 0.04488 -0.09375 0.05945 0.09218 0.08651 C 0.10086 0.08929 0.10955 0.0916 0.11823 0.09438 C 0.1217 0.09554 0.12621 0.09484 0.12812 0.09877 C 0.12951 0.10109 0.12465 0.10224 0.12274 0.10317 C 0.11771 0.10525 0.11302 0.10687 0.10781 0.1078 C 0.09652 0.10988 0.08489 0.1108 0.07326 0.11219 C -0.09653 0.10687 -0.27118 0.10479 -0.4382 0.05991 C -0.4882 0.04626 -0.53993 0.04094 -0.58872 0.01943 C -0.60556 0.0118 -0.63924 -0.00301 -0.63924 -0.00301 C -0.63941 -0.0044 -0.6415 -0.00671 -0.64028 -0.00763 C -0.63507 -0.01226 -0.60973 -0.01619 -0.60764 -0.01666 C -0.4566 -0.01226 -0.30591 0.00069 -0.15504 0.0074 C -0.11927 0.01133 -0.08334 0.00902 -0.04827 0.01642 C -0.04289 0.01758 -0.05868 0.01943 -0.06407 0.02105 C -0.24844 0.01596 -0.43334 0.00786 -0.61771 0.00278 C -0.58021 -0.02336 -0.53542 -0.02313 -0.49445 -0.02845 C -0.37032 -0.04441 -0.24705 -0.05482 -0.1224 -0.06014 C -0.10851 -0.0613 -0.09462 -0.06292 -0.08073 -0.06431 C -0.06563 -0.06593 -0.11146 -0.06246 -0.12691 -0.0613 C -0.20504 -0.05598 -0.15521 -0.05876 -0.27639 -0.05691 C -0.33907 -0.05367 -0.38698 -0.05413 -0.44601 -0.04488 C -0.45747 -0.04303 -0.46927 -0.04025 -0.48091 -0.03747 C -0.49289 -0.0347 -0.51684 -0.02845 -0.51684 -0.02845 C -0.51789 -0.02753 -0.52136 -0.02521 -0.52014 -0.02568 C -0.5132 -0.0266 -0.50677 -0.03077 -0.49983 -0.03146 C -0.49045 -0.03239 -0.48125 -0.03331 -0.47188 -0.03447 C -0.41841 -0.04141 -0.43907 -0.04094 -0.37865 -0.0465 C -0.2757 -0.05598 -0.17535 -0.05829 -0.07188 -0.06014 C -0.08559 -0.05066 -0.13507 -0.04881 -0.14479 -0.04788 C -0.20799 -0.0421 -0.27153 -0.03886 -0.33473 -0.03609 C -0.35452 -0.034 -0.43646 -0.02706 -0.45834 -0.02406 C -0.47118 -0.02221 -0.48386 -0.01966 -0.49653 -0.01666 C -0.50365 -0.0148 -0.51094 -0.01157 -0.51789 -0.00902 C -0.52014 -0.0081 -0.52691 -0.00578 -0.52448 -0.00625 C -0.50174 -0.00763 -0.479 -0.01319 -0.45625 -0.01527 C -0.43907 -0.01666 -0.42153 -0.01712 -0.40452 -0.01804 C -0.29479 -0.03424 -0.18681 -0.04441 -0.07622 -0.04973 C -0.09549 -0.03192 -0.17466 -0.03609 -0.20452 -0.03447 C -0.22205 -0.03377 -0.23959 -0.03239 -0.25712 -0.03146 C -0.28646 -0.02799 -0.31563 -0.02614 -0.34479 -0.02105 C -0.41285 -0.00972 -0.34914 -0.01573 -0.39653 -0.01203 C -0.4 -0.01157 -0.40973 -0.00902 -0.4066 -0.01041 C -0.39514 -0.01666 -0.38872 -0.02059 -0.37535 -0.02406 C -0.35052 -0.03053 -0.3257 -0.03562 -0.30104 -0.04048 C -0.23438 -0.05344 -0.14879 -0.05737 -0.08177 -0.08374 C -0.12622 -0.08952 -0.03768 -0.07865 -0.15955 -0.0886 C -0.28039 -0.09854 -0.40122 -0.11196 -0.52223 -0.11844 C -0.50799 -0.12561 -0.49358 -0.12792 -0.47865 -0.13185 C -0.4224 -0.14758 -0.37118 -0.15313 -0.31337 -0.15568 C -0.3033 -0.15522 -0.29306 -0.15522 -0.28299 -0.15429 C -0.28125 -0.15406 -0.27778 -0.15522 -0.27726 -0.15267 C -0.27691 -0.15059 -0.28004 -0.1492 -0.28177 -0.14828 C -0.28559 -0.1462 -0.28924 -0.14481 -0.29306 -0.14365 C -0.31806 -0.13694 -0.34184 -0.13301 -0.36719 -0.13185 C -0.41094 -0.12561 -0.454 -0.12168 -0.49775 -0.1152 C -0.50139 -0.11381 -0.50539 -0.11242 -0.50886 -0.1108 C -0.51042 -0.11034 -0.51528 -0.10803 -0.51354 -0.10803 C -0.47361 -0.10988 -0.43386 -0.1226 -0.39427 -0.13023 C -0.2882 -0.15059 -0.18039 -0.15961 -0.07292 -0.1647 C -0.04966 -0.1492 -0.05782 -0.15614 -0.13351 -0.14828 C -0.20018 -0.14157 -0.26684 -0.13602 -0.33351 -0.13324 C -0.35747 -0.13116 -0.44132 -0.12468 -0.46858 -0.12121 C -0.49289 -0.11797 -0.51806 -0.1152 -0.54028 -0.10039 C -0.49115 -0.08605 -0.53108 -0.09715 -0.4 -0.10178 C -0.27813 -0.10618 -0.15677 -0.11103 -0.0349 -0.11381 C 0.01927 -0.11173 0.14809 -0.11797 0.21232 -0.10039 C 0.20156 -0.09045 0.15607 -0.08582 0.15069 -0.08536 C 0.02083 -0.07564 -0.11042 -0.07102 -0.24045 -0.06593 C -0.29532 -0.06084 -0.34844 -0.04696 -0.40313 -0.04048 C -0.40452 -0.04002 -0.40782 -0.03794 -0.4066 -0.03886 C -0.40365 -0.04118 -0.40087 -0.04326 -0.39775 -0.04488 C -0.39167 -0.04788 -0.38559 -0.05043 -0.37952 -0.05251 C -0.35903 -0.05968 -0.33785 -0.0613 -0.31667 -0.06292 C -0.27639 -0.06223 -0.23091 -0.06523 -0.18993 -0.05691 C -0.21598 -0.04279 -0.25157 -0.04788 -0.27865 -0.0465 C -0.50643 -0.03609 -0.29045 -0.04279 -0.61216 -0.03609 C -0.61771 -0.03562 -0.62344 -0.03285 -0.629 -0.03447 C -0.63299 -0.03562 -0.62153 -0.03655 -0.61771 -0.03747 C -0.60712 -0.04002 -0.59636 -0.04349 -0.58542 -0.04488 C -0.54827 -0.04973 -0.51111 -0.05066 -0.47396 -0.0539 C -0.354 -0.06431 -0.23351 -0.06454 -0.11337 -0.07194 C -0.09914 -0.07102 -0.03768 -0.07102 -0.09549 -0.06292 C -0.12709 -0.05876 -0.17535 -0.05691 -0.20677 -0.05552 C -0.28212 -0.04835 -0.35816 -0.04742 -0.43368 -0.03609 C -0.4632 -0.03146 -0.50122 -0.02313 -0.53125 -0.01342 C -0.54202 -0.00995 -0.55226 -0.00578 -0.56285 -0.00162 C -0.56632 -0.00023 -0.57639 0.00093 -0.57309 0.00278 C -0.56875 0.00601 -0.56302 0.00185 -0.55816 0.00139 C -0.49184 -0.0081 -0.57795 0.00185 -0.4842 -0.00625 C -0.46354 -0.00763 -0.44306 -0.00995 -0.4224 -0.01203 C -0.32552 -0.00995 -0.16129 -0.02706 -0.04723 0.01041 C -0.03403 0.0192 -0.06493 0.02591 -0.06841 0.02683 C -0.07917 0.03007 -0.09011 0.03308 -0.10087 0.03447 C -0.14028 0.03956 -0.17969 0.04441 -0.21893 0.04626 C -0.31372 0.05066 -0.40834 0.05251 -0.50313 0.0539 C -0.50677 0.05297 -0.51563 0.05436 -0.51354 0.05089 C -0.50955 0.04488 -0.50226 0.04488 -0.49653 0.04349 C -0.48473 0.04048 -0.43785 0.03539 -0.429 0.03447 C -0.36684 0.02799 -0.30486 0.02498 -0.24271 0.02221 C -0.19966 0.02359 -0.1566 0.02406 -0.11337 0.02683 C -0.09705 0.02776 -0.08039 0.02984 -0.06407 0.03262 C -0.05052 0.03539 -0.02361 0.04349 -0.02361 0.04349 C -0.02535 0.05482 -0.02361 0.05135 -0.0382 0.05529 C -0.08004 0.06662 -0.07917 0.06199 -0.129 0.06708 C -0.24618 0.07981 -0.3632 0.07934 -0.48091 0.08073 C -0.48872 0.08027 -0.49983 0.0879 -0.50452 0.07934 C -0.50799 0.0724 -0.49271 0.07263 -0.48629 0.07032 C -0.47448 0.06616 -0.46268 0.06199 -0.45052 0.05991 C -0.43768 0.0576 -0.3382 0.04835 -0.33039 0.04788 C -0.24393 0.0421 -0.15712 0.04256 -0.07084 0.03886 C -0.12882 0.0458 -0.19098 0.03886 -0.24931 0.03447 C -0.36285 0.02591 -0.47448 0.01133 -0.5875 -0.00162 C -0.59306 -0.00347 -0.61059 -0.00486 -0.61337 -0.01527 C -0.58941 -0.04141 -0.56198 -0.04927 -0.53264 -0.0613 C -0.46962 -0.08721 -0.40608 -0.10942 -0.34132 -0.12584 C -0.3382 -0.12792 -0.33473 -0.13023 -0.33125 -0.13185 C -0.32986 -0.13255 -0.32518 -0.13324 -0.32691 -0.13324 C -0.36997 -0.13162 -0.4132 -0.12468 -0.45625 -0.11982 C -0.52952 -0.12075 -0.60295 -0.12121 -0.67622 -0.12283 C -0.67882 -0.12283 -0.68334 -0.1226 -0.68316 -0.12584 C -0.68264 -0.12931 -0.63924 -0.15267 -0.63924 -0.15267 C -0.57882 -0.17488 -0.51858 -0.18876 -0.45625 -0.19616 C -0.49271 -0.17465 -0.53872 -0.17951 -0.57726 -0.17812 C -0.52014 -0.17303 -0.46268 -0.17048 -0.40539 -0.16771 C -0.34757 -0.15961 -0.29011 -0.14781 -0.23264 -0.13926 C -0.22865 -0.13787 -0.22257 -0.13972 -0.22118 -0.13486 C -0.22032 -0.1307 -0.2257 -0.12723 -0.229 -0.12584 C -0.23403 -0.12353 -0.23959 -0.12468 -0.24479 -0.12422 C -0.37622 -0.13532 -0.50278 -0.17534 -0.63143 -0.20958 C -0.62014 -0.23479 -0.56389 -0.25029 -0.55157 -0.25307 C -0.52865 -0.25839 -0.50608 -0.26625 -0.48299 -0.27088 C -0.47118 -0.27319 -0.42327 -0.27735 -0.40886 -0.27851 C -0.39532 -0.27805 -0.38212 -0.27782 -0.36841 -0.27689 C -0.36632 -0.27666 -0.35973 -0.27735 -0.36164 -0.2755 C -0.36476 -0.2725 -0.3691 -0.27342 -0.37292 -0.2725 C -0.47118 -0.27573 -0.56806 -0.28799 -0.66511 -0.30997 C -0.68681 -0.31483 -0.70799 -0.31737 -0.729 -0.32477 C -0.72587 -0.34282 -0.66736 -0.34883 -0.65938 -0.35022 C -0.63351 -0.35508 -0.56059 -0.36711 -0.52691 -0.37428 C -0.50035 -0.38006 -0.47361 -0.38492 -0.44705 -0.39255 C -0.43473 -0.39579 -0.41007 -0.40273 -0.41007 -0.40273 C -0.46806 -0.41314 -0.52952 -0.4136 -0.58872 -0.41777 C -0.59306 -0.41985 -0.5974 -0.42239 -0.60226 -0.42378 C -0.60469 -0.42471 -0.61007 -0.42193 -0.61007 -0.42517 C -0.61007 -0.43118 -0.60608 -0.4372 -0.60226 -0.4402 C -0.57604 -0.46033 -0.56268 -0.45709 -0.53473 -0.46704 C -0.52136 -0.47166 -0.50868 -0.47883 -0.49532 -0.48369 C -0.4474 -0.50058 -0.41042 -0.50567 -0.35816 -0.51654 C -0.33646 -0.52117 -0.31407 -0.5214 -0.29219 -0.52394 C -0.28733 -0.5244 -0.27726 -0.52556 -0.27726 -0.52556 C -0.27639 -0.5251 -0.27327 -0.5251 -0.27414 -0.52394 C -0.2757 -0.52163 -0.2783 -0.5214 -0.28073 -0.52093 C -0.30104 -0.51723 -0.32205 -0.51515 -0.34254 -0.51191 C -0.39045 -0.51631 -0.43959 -0.52047 -0.48299 -0.54939 C -0.49098 -0.56766 -0.48594 -0.57483 -0.47188 -0.58547 C -0.44115 -0.60884 -0.44341 -0.60583 -0.41007 -0.62434 C -0.39914 -0.63035 -0.38854 -0.63498 -0.37865 -0.64377 C -0.39167 -0.65233 -0.41007 -0.65001 -0.42466 -0.65117 C -0.47309 -0.66112 -0.51858 -0.67199 -0.56719 -0.68564 C -0.57986 -0.68911 -0.59306 -0.69119 -0.60556 -0.69628 C -0.61858 -0.70183 -0.64479 -0.7127 -0.64479 -0.7127 C -0.64983 -0.71709 -0.65104 -0.7164 -0.64028 -0.7201 C -0.62969 -0.7238 -0.61893 -0.7238 -0.60764 -0.7245 C -0.5724 -0.72403 -0.53733 -0.72473 -0.50209 -0.72311 C -0.5007 -0.72311 -0.50434 -0.7208 -0.50539 -0.7201 C -0.51268 -0.71548 -0.51927 -0.70946 -0.52691 -0.70669 C -0.53195 -0.7046 -0.53733 -0.70298 -0.54271 -0.70067 C -0.58993 -0.67962 -0.51858 -0.70599 -0.59983 -0.67823 C -0.61181 -0.67407 -0.62223 -0.67384 -0.63264 -0.66482 C -0.59931 -0.66112 -0.51268 -0.68471 -0.49775 -0.68725 C -0.40747 -0.70322 -0.3165 -0.71501 -0.2257 -0.72311 C -0.19566 -0.72265 -0.1658 -0.7245 -0.13594 -0.72172 C -0.13229 -0.72149 -0.14254 -0.71709 -0.14584 -0.71571 C -0.15365 -0.71247 -0.16164 -0.71039 -0.16945 -0.70807 C -0.18143 -0.70437 -0.19358 -0.70067 -0.20539 -0.69766 C -0.25903 -0.68448 -0.27986 -0.68702 -0.3382 -0.65718 C -0.35834 -0.64677 -0.37639 -0.63868 -0.39532 -0.62572 C -0.40209 -0.62133 -0.41459 -0.61092 -0.41459 -0.61092 C -0.42205 -0.59079 -0.36198 -0.61277 -0.35625 -0.61393 C -0.32952 -0.61971 -0.25504 -0.63798 -0.21997 -0.64238 C -0.19375 -0.64562 -0.14132 -0.64978 -0.14132 -0.64978 C -0.13664 -0.6477 -0.12726 -0.65047 -0.12691 -0.64377 C -0.12622 -0.63706 -0.13577 -0.63706 -0.14028 -0.63474 C -0.16146 -0.62457 -0.18386 -0.61832 -0.20452 -0.60629 C -0.22778 -0.59288 -0.25191 -0.58177 -0.27414 -0.56581 C -0.28299 -0.55933 -0.29236 -0.55401 -0.30104 -0.54638 C -0.30816 -0.5399 -0.32118 -0.52394 -0.32118 -0.52394 C -0.32431 -0.51561 -0.32743 -0.51469 -0.31997 -0.51191 C -0.20747 -0.51816 -0.26459 -0.517 -0.14827 -0.51492 C -0.15348 -0.50104 -0.16545 -0.49734 -0.17535 -0.49109 C -0.18993 -0.48184 -0.204 -0.47745 -0.21893 -0.47004 C -0.22292 -0.46819 -0.22691 -0.46657 -0.23039 -0.46403 C -0.23473 -0.46079 -0.24271 -0.45246 -0.24271 -0.45246 C -0.24306 -0.45061 -0.24445 -0.44899 -0.24358 -0.44761 C -0.24271 -0.44599 -0.2408 -0.44668 -0.23924 -0.44622 C -0.23091 -0.44414 -0.22552 -0.44367 -0.21684 -0.44344 C -0.20226 -0.44275 -0.18768 -0.44229 -0.17292 -0.44182 C -0.1441 -0.4372 -0.11493 -0.43488 -0.08768 -0.42239 C -0.10573 -0.3981 -0.15521 -0.39764 -0.17622 -0.39255 C -0.26285 -0.37011 -0.38559 -0.34444 -0.43247 -0.23202 C -0.43594 -0.16609 -0.40573 -0.14874 -0.36164 -0.12584 C -0.31667 -0.10271 -0.27327 -0.09762 -0.2257 -0.09577 C -0.21736 -0.09484 -0.20938 -0.09276 -0.20087 -0.09276 C -0.1967 -0.09276 -0.19289 -0.09461 -0.18854 -0.09577 C -0.18698 -0.09623 -0.18247 -0.09762 -0.1842 -0.09762 C -0.20539 -0.09762 -0.22691 -0.0953 -0.24827 -0.09438 C -0.25938 -0.09183 -0.28299 -0.08536 -0.2908 -0.09276 C -0.29497 -0.09669 -0.28125 -0.12584 -0.27952 -0.12885 C -0.25677 -0.17095 -0.23559 -0.20819 -0.2257 -0.25908 C -0.23299 -0.34166 -0.279 -0.37081 -0.33473 -0.39672 C -0.43611 -0.44367 -0.54931 -0.46657 -0.65608 -0.47328 C -0.66476 -0.4756 -0.66545 -0.47421 -0.65052 -0.48207 C -0.62848 -0.49364 -0.62049 -0.49549 -0.59549 -0.5015 C -0.54948 -0.51261 -0.504 -0.52371 -0.45834 -0.53458 C -0.37327 -0.55471 -0.46233 -0.53898 -0.40782 -0.548 C -0.40539 -0.54892 -0.39879 -0.5517 -0.40087 -0.55101 C -0.42639 -0.5443 -0.45052 -0.53921 -0.47622 -0.53458 C -0.54028 -0.52279 -0.60469 -0.51608 -0.66962 -0.51191 C -0.70764 -0.50335 -0.68611 -0.50983 -0.60434 -0.49549 C -0.5816 -0.49156 -0.55886 -0.48971 -0.53577 -0.48647 C -0.4665 -0.47675 -0.34236 -0.45778 -0.28872 -0.44344 C -0.24445 -0.43118 -0.18229 -0.42586 -0.14271 -0.39093 C -0.15955 -0.35369 -0.18334 -0.35115 -0.2158 -0.33079 C -0.25191 -0.30812 -0.29045 -0.28314 -0.31563 -0.24104 C -0.31945 -0.22554 -0.3165 -0.22693 -0.30539 -0.22161 C -0.21858 -0.22693 -0.1316 -0.23363 -0.04479 -0.24289 C -0.0099 -0.24196 0.025 -0.24242 0.05955 -0.23965 C 0.06232 -0.23942 0.05521 -0.23618 0.05277 -0.23502 C 0.04635 -0.23202 0.03941 -0.22947 0.03264 -0.22762 C 0.021 -0.22438 0.00955 -0.22207 -0.00209 -0.21999 C -0.04844 -0.21166 -0.09532 -0.20541 -0.14132 -0.19616 C -0.15139 -0.19431 -0.16111 -0.19177 -0.17084 -0.18876 C -0.17535 -0.1876 -0.17969 -0.18575 -0.1842 -0.18413 C -0.18646 -0.18321 -0.19289 -0.17951 -0.19098 -0.18136 C -0.16285 -0.20495 -0.13056 -0.21258 -0.09879 -0.22299 C -0.03611 -0.24428 0.02586 -0.26856 0.08871 -0.28753 C 0.12257 -0.29771 0.11354 -0.29332 0.13941 -0.30234 C 0.14757 -0.30511 0.15746 -0.30904 0.15746 -0.30997 C 0.15746 -0.31251 0.15364 -0.30904 0.15173 -0.30835 C 0.14739 -0.30696 0.14288 -0.30558 0.13836 -0.30396 C 0.13229 -0.30164 0.12621 -0.29933 0.12031 -0.29655 C 0.06805 -0.27111 0.07882 -0.2762 0.02934 -0.24404 C 0.02343 -0.24011 0.01371 -0.22762 0.01371 -0.22762 C 0.01059 -0.21559 0.01146 -0.22392 0.02934 -0.22762 C 0.04687 -0.23155 0.06458 -0.23595 0.08229 -0.23803 C 0.096 -0.23965 0.12361 -0.24104 0.12361 -0.24104 C 0.14218 -0.24011 0.15486 -0.24242 0.171 -0.23363 C 0.16666 -0.21305 0.13854 -0.21305 0.12604 -0.2112 C 0.11406 -0.21166 0.10173 -0.21073 0.0901 -0.21258 C 0.08854 -0.21305 0.09201 -0.21605 0.0934 -0.21698 C 0.10069 -0.22253 0.10833 -0.22739 0.1158 -0.23202 C 0.12187 -0.23548 0.12795 -0.23895 0.13385 -0.24289 C 0.16475 -0.26209 0.19635 -0.28291 0.22812 -0.29933 C 0.24218 -0.32316 0.19896 -0.32477 0.1901 -0.32639 C 0.13593 -0.33634 0.08055 -0.3368 0.02604 -0.33981 C 0.0401 -0.34444 0.05434 -0.34467 0.06857 -0.34883 C 0.07812 -0.35161 0.0875 -0.35531 0.09687 -0.35785 C 0.11545 -0.36271 0.1342 -0.36664 0.15277 -0.37127 C 0.16059 -0.37312 0.1684 -0.37567 0.17639 -0.37728 C 0.18142 -0.37821 0.18611 -0.37914 0.19114 -0.38029 C 0.19479 -0.38122 0.19843 -0.38214 0.20243 -0.3833 C 0.20347 -0.38353 0.20694 -0.38469 0.20573 -0.38469 C 0.20156 -0.38469 0.19739 -0.38376 0.1934 -0.3833 C 0.17066 -0.37543 0.15069 -0.36479 0.12934 -0.35184 C 0.12361 -0.34837 0.11232 -0.33981 0.11232 -0.33981 C 0.10781 -0.33102 0.10781 -0.33287 0.12361 -0.33981 C 0.13836 -0.34629 0.15347 -0.35693 0.16753 -0.36526 C 0.17361 -0.36896 0.18021 -0.37034 0.18663 -0.37289 C 0.18854 -0.37358 0.19444 -0.3759 0.19218 -0.3759 C 0.17639 -0.3759 0.15833 -0.36549 0.14375 -0.35785 C 0.13767 -0.35462 0.12604 -0.34744 0.12604 -0.34744 C 0.12604 -0.34744 0.11666 -0.3375 0.12708 -0.33981 C 0.13767 -0.34212 0.13576 -0.35022 0.14826 -0.35022 L 0.16093 -0.36387 L 0.17534 -0.35623 E">
                                      <p:cBhvr>
                                        <p:cTn id="16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w to Hel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not call for general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sult local telephone directori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you call by mistak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ell the dispatcher you have misdial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it if you hear a recor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2.8198E-006 C -0.02152 0.00971 -0.02742 0.00925 -0.05277 0.01064 C -0.07013 0.0148 -0.08715 0.02012 -0.10451 0.02406 C -0.14704 0.04488 -0.19079 0.05783 -0.23367 0.07634 C -0.27274 0.09322 -0.31076 0.10895 -0.35156 0.11543 C -0.4269 0.10664 -0.50433 0.08119 -0.57291 0.03747 C -0.58749 0.02822 -0.60173 0.01735 -0.61562 0.00601 C -0.61909 0.00324 -0.62343 0.00278 -0.6269 -2.8198E-006 C -0.63055 -0.00278 -0.63333 -0.00763 -0.63697 -0.01041 C -0.64461 -0.01619 -0.65277 -0.02036 -0.66058 -0.02545 C -0.66388 -0.02753 -0.66649 -0.03169 -0.66961 -0.03424 C -0.68663 -0.04858 -0.70486 -0.06107 -0.72135 -0.07634 C -0.77534 -0.1263 -0.81163 -0.20495 -0.82465 -0.29031 C -0.82777 -0.34583 -0.83263 -0.44552 -0.80104 -0.49248 C -0.78593 -0.51492 -0.79565 -0.50243 -0.76961 -0.52695 C -0.7394 -0.5554 -0.70399 -0.56026 -0.6684 -0.56442 C -0.65989 -0.56535 -0.65121 -0.56627 -0.6427 -0.5672 C -0.62951 -0.56859 -0.60329 -0.57183 -0.60329 -0.57183 C -0.57933 -0.57113 -0.5552 -0.57321 -0.53142 -0.56882 C -0.50173 -0.56327 -0.47326 -0.5517 -0.44374 -0.54638 C -0.41614 -0.53597 -0.38749 -0.53158 -0.35954 -0.52394 C -0.25503 -0.49549 -0.35347 -0.52094 -0.2842 -0.4985 C -0.24045 -0.48439 -0.20017 -0.47004 -0.15833 -0.44761 C -0.13819 -0.43697 -0.11579 -0.4291 -0.09652 -0.41615 C -0.0717 -0.39949 -0.02899 -0.35901 -0.01788 -0.32339 C -0.01284 -0.30719 -0.00815 -0.29216 -0.00451 -0.27527 C -0.00242 -0.26579 0.00226 -0.24682 0.00226 -0.24682 C 0.00417 -0.22901 0.00608 -0.21282 0.00678 -0.19454 C 0.00608 -0.1654 0.00712 -0.14411 8.61111E-006 -0.11821 C -0.00329 -0.10641 -0.00937 -0.09831 -0.01458 -0.08813 C -0.01874 -0.07981 -0.02308 -0.07032 -0.02795 -0.06269 C -0.0559 -0.01804 -0.10798 0.00324 -0.14826 0.01665 C -0.14913 0.01665 -0.17916 0.01665 -0.18975 0.01365 C -0.20156 0.01041 -0.21249 0.00601 -0.22465 0.00463 C -0.24218 -0.00347 -0.26249 -0.00509 -0.2809 -0.0074 C -0.28802 -0.00833 -0.30225 -0.01041 -0.30225 -0.01041 C -0.31492 -0.01411 -0.32812 -0.01504 -0.34045 -0.02082 C -0.3644 -0.03192 -0.38854 -0.04488 -0.41336 -0.05228 C -0.4302 -0.05737 -0.43454 -0.05829 -0.4493 -0.05991 C -0.45833 -0.06084 -0.47638 -0.06269 -0.47638 -0.06269 C -0.51562 -0.06107 -0.54565 -0.06616 -0.57968 -0.04488 C -0.59079 -0.03794 -0.60329 -0.02938 -0.61006 -0.01481 C -0.61267 -0.00902 -0.61683 0.00301 -0.61683 0.00301 C -0.61909 0.0192 -0.62117 0.03377 -0.62465 0.0495 C -0.62621 0.05644 -0.62916 0.07055 -0.62916 0.07055 C -0.63107 0.08906 -0.63298 0.0997 -0.62795 0.11982 C -0.61736 0.16262 -0.55086 0.15822 -0.52795 0.15869 C -0.47899 0.15961 -0.42986 0.15984 -0.3809 0.1603 C -0.31927 0.16285 -0.25763 0.16146 -0.19652 0.1499 C -0.18194 0.14272 -0.16492 0.13995 -0.15156 0.12885 C -0.1335 0.11381 -0.11718 0.09183 -0.10104 0.07333 C -0.09166 0.06246 -0.08038 0.05436 -0.07065 0.04349 C -0.06076 0.03262 -0.05173 0.01665 -0.0427 0.00463 C -0.03038 -0.0118 -0.02187 -0.04372 -0.01336 -0.06431 C -0.00746 -0.09392 -0.00312 -0.12353 -0.00104 -0.15406 C -0.00052 -0.17187 0.00035 -0.20472 0.00122 -0.22299 C 0.00139 -0.22739 0.00192 -0.23202 0.00226 -0.23641 C 0.00296 -0.24381 0.00452 -0.25885 0.00452 -0.25885 C 0.00417 -0.26833 0.00469 -0.27805 0.00348 -0.2873 C -0.00156 -0.32639 -0.03697 -0.34421 -0.05954 -0.35924 C -0.09617 -0.38376 -0.13506 -0.40874 -0.17517 -0.42216 C -0.20833 -0.43326 -0.2467 -0.43789 -0.2809 -0.43997 C -0.33871 -0.43858 -0.39548 -0.43303 -0.45277 -0.42517 C -0.47031 -0.41592 -0.48767 -0.40782 -0.50451 -0.39672 C -0.51631 -0.38885 -0.5059 -0.39278 -0.51683 -0.38608 C -0.52638 -0.38029 -0.53663 -0.37382 -0.54704 -0.37127 C -0.55555 -0.36549 -0.56406 -0.35947 -0.57291 -0.35462 C -0.59791 -0.31298 -0.60763 -0.27666 -0.61111 -0.22299 C -0.61041 -0.19246 -0.61302 -0.1883 -0.60659 -0.16609 C -0.58628 -0.09577 -0.521 -0.06546 -0.47065 -0.04927 C -0.4526 -0.04349 -0.43645 -0.03562 -0.41788 -0.03285 C -0.38906 -0.03377 -0.37708 -0.034 -0.35381 -0.03724 C -0.34374 -0.04094 -0.33281 -0.04441 -0.32239 -0.04626 C -0.29409 -0.05714 -0.26076 -0.06708 -0.23819 -0.09415 C -0.23281 -0.10063 -0.23003 -0.1078 -0.22569 -0.1152 C -0.22291 -0.12491 -0.22222 -0.13509 -0.22013 -0.14504 C -0.22048 -0.15314 -0.22031 -0.16123 -0.22135 -0.1691 C -0.22239 -0.1765 -0.22812 -0.18876 -0.23142 -0.19454 C -0.24722 -0.22207 -0.25781 -0.23086 -0.28194 -0.24543 C -0.30468 -0.25931 -0.32847 -0.27458 -0.35277 -0.28291 C -0.37552 -0.29077 -0.39999 -0.30072 -0.42013 -0.31737 C -0.44236 -0.33588 -0.46319 -0.35762 -0.4809 -0.38307 C -0.48784 -0.39301 -0.49097 -0.40643 -0.49652 -0.41753 C -0.49843 -0.42147 -0.50138 -0.42424 -0.50329 -0.42818 C -0.50885 -0.43928 -0.51267 -0.45246 -0.51788 -0.46403 C -0.5276 -0.48531 -0.51944 -0.46357 -0.5302 -0.48508 C -0.53975 -0.50451 -0.54843 -0.52417 -0.55833 -0.54337 C -0.55694 -0.55355 -0.5526 -0.55679 -0.54496 -0.55841 C -0.53645 -0.56026 -0.51909 -0.5628 -0.51909 -0.5628 C -0.47968 -0.56119 -0.44027 -0.5591 -0.40104 -0.5554 C -0.39617 -0.55448 -0.39131 -0.55309 -0.38645 -0.55239 C -0.37638 -0.55101 -0.35607 -0.54939 -0.35607 -0.54939 C -0.24305 -0.5251 -0.13194 -0.49225 -0.02013 -0.45964 C 0.02778 -0.44552 0.07778 -0.43581 0.12483 -0.41615 C 0.13994 -0.4099 0.15695 -0.4062 0.1698 -0.39371 C 0.17084 -0.38746 0.17431 -0.37567 0.17431 -0.37567 C 0.1783 -0.34097 0.16962 -0.31714 0.16181 -0.28591 C 0.15764 -0.26926 0.15209 -0.25307 0.14497 -0.23803 C 0.14046 -0.22831 0.13351 -0.22022 0.13039 -0.20958 C 0.12969 -0.20703 0.12935 -0.20426 0.12813 -0.20194 C 0.12587 -0.19755 0.12258 -0.19454 0.12032 -0.19015 C 0.11546 -0.18066 0.11025 -0.1691 0.10348 -0.16169 C 0.08334 -0.13972 0.05955 -0.12584 0.03594 -0.11219 C 0.02396 -0.10525 0.0132 -0.0953 0.00122 -0.08813 C -0.02413 -0.07287 -0.04999 -0.05876 -0.07413 -0.04025 C -0.08159 -0.03447 -0.08958 -0.02915 -0.09652 -0.02244 C -0.10208 -0.01712 -0.10624 -0.00879 -0.11232 -0.0044 C -0.12621 0.00578 -0.13906 0.01781 -0.15277 0.02845 C -0.16249 0.03585 -0.17187 0.04256 -0.18194 0.0495 C -0.20208 0.06361 -0.19079 0.06014 -0.20451 0.06292 C -0.20954 0.06639 -0.21458 0.06847 -0.22013 0.07055 C -0.24027 0.06916 -0.25972 0.06616 -0.27968 0.06292 C -0.30833 0.05043 -0.27013 0.06616 -0.30104 0.0569 C -0.30416 0.05598 -0.30694 0.05343 -0.31006 0.05251 C -0.32864 0.04626 -0.34722 0.04279 -0.3651 0.03308 C -0.37308 0.02891 -0.38229 0.02521 -0.38975 0.01966 C -0.40034 0.01157 -0.41006 0.00162 -0.42013 -0.0074 C -0.42517 -0.0118 -0.43038 -0.01619 -0.43593 -0.01943 C -0.43923 -0.02151 -0.44288 -0.0229 -0.446 -0.02545 C -0.44895 -0.02776 -0.45086 -0.03192 -0.45381 -0.03424 C -0.45694 -0.03678 -0.46076 -0.03794 -0.46406 -0.04025 C -0.47604 -0.04881 -0.48715 -0.05945 -0.49878 -0.0687 C -0.50867 -0.07657 -0.51979 -0.08212 -0.52916 -0.09114 C -0.55954 -0.12029 -0.58611 -0.1566 -0.61232 -0.19153 C -0.6177 -0.19871 -0.62031 -0.20888 -0.62465 -0.21698 C -0.62604 -0.22508 -0.62933 -0.23178 -0.63142 -0.23942 C -0.63506 -0.2526 -0.63836 -0.26463 -0.64374 -0.27689 C -0.64565 -0.28846 -0.64895 -0.29979 -0.65156 -0.31136 C -0.65538 -0.3486 -0.65572 -0.38631 -0.65954 -0.42355 C -0.6585 -0.46264 -0.65763 -0.50104 -0.65052 -0.53898 C -0.64826 -0.5672 -0.63802 -0.62341 -0.61458 -0.63475 C -0.59583 -0.64377 -0.58437 -0.64469 -0.56284 -0.64654 C -0.55729 -0.64701 -0.546 -0.64816 -0.546 -0.64816 C -0.4967 -0.64307 -0.45052 -0.62757 -0.40225 -0.61231 C -0.36249 -0.59982 -0.32482 -0.58732 -0.28645 -0.56882 C -0.25017 -0.55147 -0.22187 -0.54291 -0.19427 -0.50752 C -0.19045 -0.49734 -0.18454 -0.48855 -0.17968 -0.47907 C -0.17326 -0.46681 -0.16944 -0.45293 -0.16406 -0.43997 C -0.15763 -0.42471 -0.15121 -0.4099 -0.146 -0.39371 C -0.14461 -0.38399 -0.1427 -0.37497 -0.14149 -0.36526 C -0.14218 -0.35068 -0.14253 -0.33611 -0.14374 -0.32177 C -0.14496 -0.30627 -0.15052 -0.29077 -0.15503 -0.27689 C -0.16562 -0.24404 -0.1802 -0.2068 -0.20659 -0.19153 C -0.21388 -0.18737 -0.2217 -0.18506 -0.22916 -0.18112 C -0.23263 -0.17927 -0.23558 -0.17627 -0.23923 -0.17511 C -0.25729 -0.16933 -0.27673 -0.16655 -0.29548 -0.1647 C -0.31423 -0.16609 -0.33281 -0.16725 -0.35156 -0.1691 C -0.35642 -0.16956 -0.36128 -0.17048 -0.36614 -0.1721 C -0.37413 -0.17465 -0.38975 -0.18112 -0.38975 -0.18112 C -0.40416 -0.19269 -0.42048 -0.20125 -0.43367 -0.21559 C -0.4434 -0.226 -0.45242 -0.23757 -0.4618 -0.24844 C -0.47812 -0.26741 -0.48229 -0.27805 -0.49427 -0.30072 C -0.49687 -0.30581 -0.50225 -0.31575 -0.50225 -0.31575 C -0.50642 -0.33171 -0.51111 -0.34721 -0.51458 -0.36364 C -0.51614 -0.38492 -0.51683 -0.38399 -0.51336 -0.41314 C -0.5092 -0.44899 -0.47308 -0.46033 -0.45156 -0.46542 C -0.40416 -0.46287 -0.34322 -0.46542 -0.30781 -0.41314 C -0.29878 -0.39972 -0.29739 -0.38908 -0.29097 -0.37266 C -0.28732 -0.36317 -0.28558 -0.35462 -0.2842 -0.34421 C -0.28524 -0.33125 -0.28541 -0.31807 -0.28749 -0.30534 C -0.28802 -0.30187 -0.29079 -0.29956 -0.29201 -0.29632 C -0.29305 -0.29355 -0.29305 -0.29008 -0.29427 -0.2873 C -0.30399 -0.26718 -0.32326 -0.26139 -0.33923 -0.25746 C -0.34895 -0.25792 -0.35885 -0.257 -0.3684 -0.25885 C -0.3743 -0.26001 -0.38975 -0.27018 -0.39548 -0.27388 C -0.41649 -0.28707 -0.43975 -0.30743 -0.44826 -0.33819 C -0.44791 -0.34559 -0.44791 -0.35323 -0.44704 -0.36063 C -0.446 -0.36965 -0.43611 -0.37636 -0.43142 -0.38006 C -0.41718 -0.39186 -0.4026 -0.39602 -0.38645 -0.40111 C -0.37968 -0.40065 -0.37291 -0.40088 -0.36614 -0.39972 C -0.36058 -0.3988 -0.35833 -0.38908 -0.35503 -0.38307 C -0.34704 -0.36919 -0.34444 -0.34444 -0.3427 -0.32778 C -0.34305 -0.31876 -0.34288 -0.30974 -0.34374 -0.30072 C -0.34513 -0.28522 -0.35555 -0.28036 -0.36406 -0.27388 C -0.37812 -0.27481 -0.38107 -0.2755 -0.39201 -0.27828 C -0.39322 -0.2799 -0.39409 -0.28175 -0.39548 -0.28291 C -0.39652 -0.28383 -0.39791 -0.28337 -0.39878 -0.28429 C -0.40503 -0.291 -0.41944 -0.31205 -0.42239 -0.32177 C -0.42308 -0.32431 -0.42413 -0.32663 -0.42465 -0.32917 C -0.42569 -0.33357 -0.4269 -0.34282 -0.4269 -0.34282 C -0.42621 -0.35022 -0.42604 -0.35785 -0.42465 -0.36526 C -0.42239 -0.37728 -0.4118 -0.38677 -0.40451 -0.39209 C -0.40138 -0.3944 -0.39079 -0.40273 -0.38749 -0.40412 C -0.38124 -0.40666 -0.36232 -0.41106 -0.35381 -0.41314 C -0.34826 -0.41268 -0.31736 -0.41568 -0.30555 -0.40574 C -0.30138 -0.3988 -0.29913 -0.39463 -0.29774 -0.38608 C -0.29878 -0.37382 -0.29965 -0.3678 -0.30451 -0.35762 C -0.30642 -0.34976 -0.31319 -0.34467 -0.31909 -0.34282 C -0.32361 -0.33865 -0.32829 -0.33819 -0.33367 -0.3368 C -0.36822 -0.33842 -0.3552 -0.33588 -0.37517 -0.34583 C -0.38281 -0.35531 -0.3842 -0.36132 -0.38645 -0.37428 C -0.38611 -0.38075 -0.38628 -0.38723 -0.38541 -0.39371 C -0.38472 -0.39926 -0.38038 -0.40412 -0.37742 -0.40713 C -0.36267 -0.42239 -0.34722 -0.42286 -0.32916 -0.42517 C -0.2993 -0.42332 -0.2677 -0.41962 -0.24149 -0.3981 C -0.23576 -0.39348 -0.22447 -0.38446 -0.22013 -0.37728 C -0.21631 -0.37104 -0.21336 -0.36433 -0.21006 -0.35762 C -0.20885 -0.35531 -0.20659 -0.35022 -0.20659 -0.35022 C -0.20451 -0.33241 -0.20416 -0.33403 -0.20781 -0.30673 C -0.20867 -0.30002 -0.22222 -0.28453 -0.22239 -0.28429 C -0.23298 -0.27273 -0.24496 -0.26856 -0.25833 -0.26648 C -0.27742 -0.26949 -0.29183 -0.27203 -0.30555 -0.29031 C -0.3092 -0.30049 -0.31111 -0.30928 -0.31232 -0.32038 C -0.31163 -0.3294 -0.31163 -0.33842 -0.31006 -0.34721 C -0.30295 -0.38654 -0.25659 -0.38954 -0.23367 -0.3951 C -0.21822 -0.39417 -0.20277 -0.39533 -0.18749 -0.39209 C -0.14322 -0.38261 -0.0901 -0.353 -0.05052 -0.32639 C -0.03472 -0.31575 -0.0151 -0.29864 -0.00329 -0.28291 C 8.61110999999994E-006 -0.27851 0.00348 -0.27412 0.00678 -0.26949 C 0.01216 -0.26162 0.02258 -0.24543 0.02258 -0.24543 C 0.03143 -0.21721 0.029 -0.19524 0.00452 -0.19015 C -0.06128 -0.20079 -0.12204 -0.23849 -0.1809 -0.27828 C -0.25017 -0.32501 -0.32482 -0.38376 -0.36614 -0.47444 C -0.36736 -0.47999 -0.36979 -0.48508 -0.36961 -0.49086 C -0.36909 -0.50312 -0.36718 -0.51538 -0.36406 -0.52695 C -0.36041 -0.5406 -0.34652 -0.54707 -0.33819 -0.55239 C -0.32256 -0.56234 -0.31163 -0.56558 -0.29427 -0.5672 C -0.25781 -0.57715 -0.27187 -0.57506 -0.20885 -0.57021 C -0.13923 -0.56489 -0.0769 -0.51723 -0.046 -0.43257 C -0.04496 -0.42494 -0.0427 -0.41892 -0.04149 -0.41152 C -0.04305 -0.39556 -0.04756 -0.38492 -0.06058 -0.38168 C -0.06701 -0.37728 -0.08194 -0.37567 -0.08194 -0.37567 C -0.16788 -0.38261 -0.23524 -0.42517 -0.31232 -0.47305 C -0.34722 -0.49456 -0.39479 -0.5207 -0.41909 -0.5628 C -0.42065 -0.57622 -0.42274 -0.57969 -0.42013 -0.59565 C -0.41961 -0.59889 -0.41475 -0.6093 -0.41336 -0.61231 C -0.39479 -0.65047 -0.36076 -0.65626 -0.32916 -0.65857 C -0.29305 -0.65626 -0.26111 -0.64909 -0.22569 -0.64377 C -0.17482 -0.62549 -0.12517 -0.60884 -0.07517 -0.58686 C -0.04791 -0.57483 -0.01475 -0.56581 0.00348 -0.53435 C 0.01251 -0.49595 -0.00763 -0.4601 -0.03367 -0.44599 C -0.04548 -0.43951 -0.05798 -0.43835 -0.07065 -0.43697 C -0.1802 -0.44784 -0.28767 -0.47652 -0.38975 -0.52996 C -0.39756 -0.53412 -0.40729 -0.54083 -0.41458 -0.54638 C -0.41927 -0.55008 -0.42291 -0.55563 -0.42795 -0.55841 C -0.44722 -0.56905 -0.46388 -0.58362 -0.48194 -0.59727 C -0.49479 -0.60699 -0.50815 -0.61531 -0.52135 -0.6241 C -0.53072 -0.63035 -0.53923 -0.63845 -0.54826 -0.64515 C -0.57048 -0.66181 -0.59565 -0.67014 -0.61909 -0.68263 C -0.63819 -0.69281 -0.65798 -0.69998 -0.67864 -0.70345 C -0.69357 -0.70923 -0.71145 -0.7127 -0.7269 -0.71548 C -0.73402 -0.71941 -0.74635 -0.72519 -0.75381 -0.7275 C -0.75902 -0.73097 -0.76249 -0.73213 -0.7684 -0.73352 C -0.77499 -0.73907 -0.7835 -0.74092 -0.79097 -0.74393 C -0.79409 -0.73768 -0.79444 -0.7319 -0.79548 -0.7245 C -0.79479 -0.70507 -0.79444 -0.68564 -0.79322 -0.6662 C -0.79183 -0.64446 -0.78229 -0.6241 -0.77864 -0.60329 C -0.77308 -0.57206 -0.77673 -0.5901 -0.76614 -0.54939 C -0.7526 -0.49803 -0.74722 -0.44205 -0.73819 -0.38908 C -0.72777 -0.32824 -0.71718 -0.26718 -0.71336 -0.20495 C -0.71302 -0.18598 -0.71371 -0.16701 -0.71232 -0.14805 C -0.71197 -0.14388 -0.70677 -0.14365 -0.70451 -0.14064 C -0.70242 -0.13787 -0.70069 -0.13463 -0.69878 -0.13162 C -0.6894 -0.11589 -0.68281 -0.10201 -0.67864 -0.08235 C -0.67777 -0.07333 -0.67517 -0.06454 -0.67517 -0.05529 C -0.67517 -0.00416 -0.67847 0.0495 -0.68315 0.10039 C -0.68437 0.11427 -0.68298 0.14735 -0.69322 0.15568 C -0.69427 0.15522 -0.69652 0.15591 -0.69652 0.15429 C -0.69652 0.15221 -0.69444 0.15105 -0.69322 0.1499 C -0.68645 0.14296 -0.6802 0.13694 -0.67187 0.13486 C -0.6618 0.12954 -0.65763 0.12746 -0.64704 0.12584 C -0.64062 0.12144 -0.63367 0.12075 -0.6269 0.11682 C -0.59045 0.09623 -0.55677 0.07587 -0.52135 0.05089 C -0.46249 0.00925 -0.40833 -0.03979 -0.346 -0.07333 C -0.27812 -0.10988 -0.21545 -0.14781 -0.1493 -0.18853 C -0.0552 -0.24659 0.04289 -0.29887 0.1316 -0.37127 C 0.20695 -0.4328 0.26945 -0.50706 0.3316 -0.58987 C 0.35834 -0.62549 0.39271 -0.65927 0.40452 -0.70946 C 0.40105 -0.72959 0.40504 -0.71594 0.37084 -0.71247 C 0.31806 -0.70715 0.26528 -0.70622 0.21251 -0.70345 C 0.12292 -0.70807 0.03351 -0.71154 -0.05607 -0.71548 C -0.09583 -0.71455 -0.13454 -0.71177 -0.17413 -0.70946 C -0.22777 -0.69628 -0.28229 -0.69003 -0.33593 -0.67661 C -0.37187 -0.66759 -0.40763 -0.65603 -0.44374 -0.64816 C -0.49357 -0.63729 -0.54479 -0.62919 -0.59427 -0.61369 C -0.62308 -0.60467 -0.65121 -0.59195 -0.67968 -0.58085 C -0.68263 -0.5783 -0.68558 -0.57553 -0.68871 -0.57321 C -0.69114 -0.57136 -0.69409 -0.57067 -0.69652 -0.56882 C -0.69861 -0.5672 -0.70017 -0.56465 -0.70225 -0.5628 C -0.70364 -0.56165 -0.7052 -0.56072 -0.70659 -0.5598 C -0.71111 -0.53782 -0.69756 -0.52811 -0.68645 -0.5133 C -0.67135 -0.49318 -0.65572 -0.47444 -0.63923 -0.45663 C -0.63489 -0.452 -0.63159 -0.44552 -0.6269 -0.44159 C -0.61249 -0.42933 -0.5967 -0.41985 -0.58194 -0.40851 C -0.4894 -0.3375 -0.38906 -0.28985 -0.28871 -0.24404 C -0.24218 -0.22276 -0.17968 -0.20657 -0.14374 -0.15869 C -0.14062 -0.14874 -0.13819 -0.13902 -0.13593 -0.12862 C -0.1342 -0.11219 -0.13402 -0.09577 -0.13246 -0.07934 C -0.13159 -0.05552 -0.13003 -0.03192 -0.12569 -0.00879 C -0.12413 0.01041 -0.11979 0.02891 -0.11683 0.04788 C -0.11545 0.05644 -0.11145 0.06384 -0.10885 0.07194 C -0.10225 0.0916 -0.09617 0.11381 -0.09201 0.13486 C -0.09479 0.15175 -0.10225 0.14411 -0.11458 0.14087 C -0.15364 0.11774 -0.18836 0.08513 -0.22465 0.05552 C -0.26302 0.02429 -0.29808 -0.00532 -0.33593 -0.03724 C -0.38124 -0.07564 -0.43767 -0.10803 -0.4684 -0.17048 C -0.47083 -0.18159 -0.47308 -0.1876 -0.46961 -0.20056 C -0.46579 -0.2149 -0.43124 -0.23849 -0.42239 -0.24242 C -0.36961 -0.26509 -0.31267 -0.28082 -0.25729 -0.28429 C -0.24027 -0.2836 -0.22864 -0.28522 -0.21336 -0.2799 C -0.16579 -0.26371 -0.15069 -0.19662 -0.13697 -0.14203 C -0.13454 -0.10086 -0.13333 -0.05621 -0.14704 -0.01781 C -0.16163 0.02336 -0.19687 0.04233 -0.2269 0.0569 C -0.24288 0.06477 -0.25607 0.07148 -0.27291 0.07495 C -0.28124 0.07448 -0.2894 0.07425 -0.29774 0.07333 C -0.29895 0.0731 -0.29999 0.0724 -0.30104 0.07194 C -0.3059 0.07032 -0.31076 0.06893 -0.31562 0.06755 C -0.31753 0.06708 -0.32135 0.06593 -0.32135 0.06593 C -0.33298 0.05529 -0.34739 0.04973 -0.35954 0.04048 C -0.38038 0.02475 -0.40017 0.00763 -0.42135 -0.0074 C -0.4434 -0.0229 -0.46683 -0.03493 -0.48871 -0.05089 C -0.50607 -0.06361 -0.52256 -0.07796 -0.53697 -0.09577 C -0.54513 -0.10571 -0.55416 -0.12098 -0.5651 -0.12561 C -0.56927 -0.12515 -0.57343 -0.12538 -0.57742 -0.12422 C -0.58367 -0.1226 -0.58767 -0.11427 -0.59322 -0.1108 C -0.59826 -0.10063 -0.60399 -0.09716 -0.61232 -0.09716 C -0.46371 0.11543 -0.54097 0.0997 -0.41683 0.10178 C -0.40711 0.10201 -0.39722 0.10178 -0.38749 0.10178 C -0.35242 0.10132 -0.29097 0.10826 -0.246 0.09739 C -0.23992 0.09345 -0.2434 0.0953 -0.23819 0.09299 C -0.23593 0.09207 -0.23142 0.08998 -0.23142 0.08998 C -0.2276 0.08605 -0.22378 0.08258 -0.22013 0.07795 C -0.21302 0.05922 -0.22256 0.08212 -0.21458 0.06893 C -0.21388 0.06778 -0.21406 0.06593 -0.21336 0.06454 C -0.21145 0.06061 -0.20867 0.0576 -0.20659 0.0539 C -0.20416 0.04349 -0.20763 0.05552 -0.20225 0.04649 C -0.19999 0.04279 -0.19826 0.03585 -0.19652 0.03146 C -0.18958 0.0148 -0.18489 -0.00255 -0.17864 -0.01943 C -0.1769 -0.03054 -0.17465 -0.04118 -0.17291 -0.05228 C -0.17326 -0.07333 -0.17308 -0.09415 -0.17413 -0.1152 C -0.17465 -0.12468 -0.18576 -0.14897 -0.18871 -0.15707 C -0.19253 -0.16725 -0.19357 -0.17696 -0.19999 -0.18552 C -0.20295 -0.19061 -0.20572 -0.1957 -0.20885 -0.20056 C -0.20989 -0.20218 -0.21128 -0.20333 -0.21232 -0.20495 C -0.21631 -0.21097 -0.21753 -0.2186 -0.22239 -0.22299 C -0.22638 -0.23109 -0.2302 -0.23387 -0.23472 -0.24104 C -0.24166 -0.24913 -0.24635 -0.257 -0.25277 -0.26486 C -0.26249 -0.27689 -0.27378 -0.288 -0.2842 -0.29933 C -0.29114 -0.30696 -0.29843 -0.31275 -0.30555 -0.32038 C -0.30746 -0.32246 -0.3092 -0.32431 -0.31111 -0.32639 C -0.31215 -0.32755 -0.31458 -0.32917 -0.31458 -0.32917 C -0.32604 -0.34351 -0.33802 -0.36225 -0.35052 -0.37567 C -0.35381 -0.37914 -0.35624 -0.38422 -0.35954 -0.38769 C -0.36302 -0.39116 -0.37065 -0.39672 -0.37065 -0.39672 C -0.3743 -0.40296 -0.37742 -0.40759 -0.38315 -0.41013 C -0.3842 -0.41152 -0.38645 -0.41453 -0.38645 -0.41453 C -0.40121 -0.42956 -0.41475 -0.44252 -0.43142 -0.45362 C -0.44097 -0.45987 -0.44965 -0.47143 -0.45954 -0.47606 C -0.46857 -0.48462 -0.47812 -0.49318 -0.48645 -0.50289 C -0.49114 -0.50821 -0.49531 -0.517 -0.50104 -0.51932 C -0.50607 -0.52602 -0.51232 -0.53574 -0.51909 -0.53898 C -0.52291 -0.54291 -0.52933 -0.55216 -0.53367 -0.55378 C -0.54201 -0.5628 -0.55121 -0.57599 -0.5618 -0.57923 C -0.57604 -0.58917 -0.59305 -0.59241 -0.60885 -0.59565 C -0.63715 -0.5938 -0.66545 -0.59195 -0.69097 -0.57483 C -0.70173 -0.56766 -0.70954 -0.55725 -0.71909 -0.54777 C -0.72065 -0.54615 -0.72552 -0.5369 -0.7269 -0.53435 C -0.73124 -0.52718 -0.73628 -0.5207 -0.74045 -0.5133 C -0.74253 -0.5096 -0.74427 -0.50567 -0.746 -0.5015 C -0.74756 -0.49757 -0.75052 -0.48948 -0.75052 -0.48948 C -0.75277 -0.47351 -0.75624 -0.45524 -0.75052 -0.43997 C -0.74288 -0.41939 -0.73246 -0.39926 -0.71458 -0.39371 C -0.70677 -0.39417 -0.69861 -0.39301 -0.69097 -0.3951 C -0.67968 -0.3981 -0.67048 -0.4099 -0.6618 -0.41915 C -0.64288 -0.43928 -0.63489 -0.46241 -0.62795 -0.49248 C -0.62725 -0.50289 -0.62638 -0.51353 -0.62569 -0.52394 C -0.62499 -0.53412 -0.62847 -0.54384 -0.6302 -0.55378 C -0.63611 -0.58802 -0.65364 -0.61393 -0.67291 -0.63613 C -0.68454 -0.64955 -0.69444 -0.66227 -0.70885 -0.66921 C -0.71319 -0.64168 -0.71145 -0.60884 -0.69652 -0.58686 C -0.69565 -0.58571 -0.68888 -0.5753 -0.68541 -0.57321 C -0.68263 -0.57159 -0.67933 -0.57136 -0.67638 -0.57021 C -0.64756 -0.57715 -0.63177 -0.60213 -0.61458 -0.63174 C -0.60989 -0.63983 -0.6052 -0.64862 -0.60104 -0.65718 C -0.59843 -0.6625 -0.59322 -0.67361 -0.59322 -0.67361 C -0.5835 -0.6662 -0.58906 -0.67106 -0.57742 -0.65718 C -0.57534 -0.65464 -0.57204 -0.65441 -0.56961 -0.65256 C -0.55347 -0.64076 -0.57395 -0.64932 -0.54374 -0.63313 C -0.52742 -0.62457 -0.51249 -0.61254 -0.49652 -0.60329 C -0.48888 -0.59866 -0.48038 -0.59658 -0.47291 -0.59126 C -0.46874 -0.58825 -0.46475 -0.58501 -0.46058 -0.58224 C -0.45763 -0.58038 -0.45451 -0.57969 -0.45156 -0.57784 C -0.44149 -0.57136 -0.43177 -0.56188 -0.42135 -0.55679 C -0.4144 -0.56882 -0.4026 -0.5753 -0.39201 -0.58085 C -0.37795 -0.59704 -0.36093 -0.60629 -0.346 -0.6211 C -0.33611 -0.63104 -0.32725 -0.64238 -0.31683 -0.65117 C -0.31614 -0.65256 -0.31371 -0.65418 -0.31458 -0.65556 C -0.31562 -0.65765 -0.31822 -0.65741 -0.32013 -0.65718 C -0.32586 -0.65672 -0.33142 -0.65394 -0.33697 -0.65256 C -0.33975 -0.64978 -0.34322 -0.64816 -0.346 -0.64515 C -0.34826 -0.64261 -0.34947 -0.63891 -0.35156 -0.63613 C -0.35312 -0.62457 -0.35416 -0.62179 -0.35156 -0.60768 C -0.34843 -0.5901 -0.31805 -0.58062 -0.30781 -0.57923 C -0.2842 -0.58131 -0.26006 -0.57992 -0.23697 -0.58686 C -0.20104 -0.59773 -0.17395 -0.61393 -0.14045 -0.63174 C -0.08645 -0.66042 -0.15433 -0.61925 -0.08749 -0.66019 C -0.08107 -0.66412 -0.07465 -0.66759 -0.0684 -0.67222 C -0.06371 -0.67569 -0.05954 -0.68402 -0.05954 -0.67962 C -0.05954 -0.67685 -0.06249 -0.67569 -0.06406 -0.67361 C -0.06788 -0.6625 -0.0651 -0.66921 -0.07413 -0.65418 C -0.07986 -0.64446 -0.08333 -0.62757 -0.08645 -0.61531 C -0.09114 -0.56697 -0.06961 -0.55124 -0.03819 -0.54777 C 0.00209 -0.55147 0.04289 -0.55957 0.08091 -0.57923 C 0.08872 -0.58339 0.12796 -0.60329 0.1382 -0.6167 C 0.15105 -0.63359 0.15278 -0.63266 0.1382 -0.6241 C 0.12275 -0.60352 0.10556 -0.58571 0.09341 -0.56142 C 0.08872 -0.55216 0.08334 -0.54314 0.07987 -0.53296 C 0.07813 -0.52811 0.07535 -0.51793 0.07535 -0.51793 C 0.07674 -0.50451 0.07501 -0.48855 0.08664 -0.48508 C 0.10504 -0.50058 0.11528 -0.52787 0.12813 -0.55078 C 0.13282 -0.5591 0.13664 -0.56859 0.14046 -0.57784 C 0.14306 -0.58409 0.14723 -0.59727 0.14723 -0.59727 C 0.14758 -0.60074 0.15035 -0.60514 0.14844 -0.60768 C 0.14671 -0.60999 0.14636 -0.6019 0.14619 -0.59866 C 0.14549 -0.58154 0.14705 -0.57622 0.14948 -0.56142 C 0.15035 -0.5369 0.15035 -0.50706 0.16407 -0.48786 C 0.1783 -0.50243 0.17952 -0.52996 0.18889 -0.54939 C 0.1856 -0.53273 0.18438 -0.51561 0.18317 -0.4985 C 0.18369 -0.45987 0.17865 -0.39625 0.19775 -0.35924 C 0.20834 -0.36479 0.20695 -0.36826 0.21025 -0.38168 C 0.2099 -0.38908 0.2099 -0.39672 0.20903 -0.40412 C 0.20886 -0.40574 0.20851 -0.40111 0.20799 -0.39972 C 0.20747 -0.3981 0.20643 -0.39672 0.20573 -0.3951 C 0.2033 -0.38862 0.20313 -0.38191 0.20001 -0.37567 C 0.19879 -0.36341 0.19758 -0.35716 0.20001 -0.34282 C 0.20035 -0.34074 0.20244 -0.34004 0.20348 -0.33819 C 0.20591 -0.3338 0.20799 -0.32917 0.21025 -0.32478 C 0.21181 -0.32177 0.21546 -0.32292 0.21806 -0.32177 C 0.22396 -0.32339 0.22171 -0.32339 0.22483 -0.32339 L 0.16528 -0.26486 L 0.16528 -0.27828 L 0.17431 -0.29031 C 0.13612 -0.30072 0.11806 -0.30488 0.08542 -0.32177 C 0.07587 -0.32663 0.06598 -0.33079 0.05626 -0.33518 C 0.05122 -0.3375 0.04046 -0.33981 0.04046 -0.33981 L -0.00104 -0.33819 C -0.06614 -0.34721 -0.13124 -0.35785 -0.19652 -0.36526 C -0.20798 -0.36664 -0.18749 -0.35508 -0.18645 -0.35462 C -0.17812 -0.35022 -0.1618 -0.33981 -0.1618 -0.33981 C -0.14635 -0.31228 -0.12795 -0.28753 -0.11562 -0.25746 C -0.11319 -0.25145 -0.12447 -0.22438 -0.12795 -0.2186 C -0.13038 -0.21467 -0.13333 -0.21143 -0.13593 -0.20796 C -0.13715 -0.20634 -0.14045 -0.20495 -0.14045 -0.20495 C -0.1592 -0.17303 -0.18072 -0.14365 -0.19652 -0.10918 C -0.20416 -0.09253 -0.19288 -0.07726 -0.1842 -0.07032 C -0.1802 -0.06708 -0.17187 -0.0613 -0.17187 -0.0613 C -0.08402 0.01596 -0.01649 0.03585 -0.09201 0.04048 C -0.10399 0.04673 -0.11649 0.04858 -0.12916 0.05089 C -0.1585 0.04811 -0.18663 0.04464 -0.21562 0.03747 C -0.23246 0.03331 -0.26614 0.02406 -0.26614 0.02406 L -0.80781 -0.1078 L -0.77065 -0.1078 E">
                                      <p:cBhvr>
                                        <p:cTn id="2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ther Inform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the telephone company if you change your name o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fo displays on the dispatcher’s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patcher relies on thi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ertain your house number can be seen from the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8:24:26Z</dcterms:created>
  <dc:creator>Administrator</dc:creator>
  <dc:description/>
  <dc:language>en-US</dc:language>
  <cp:lastModifiedBy>Administrator</cp:lastModifiedBy>
  <dcterms:modified xsi:type="dcterms:W3CDTF">2008-09-22T18:27:40Z</dcterms:modified>
  <cp:revision>4</cp:revision>
  <dc:subject/>
  <dc:title>911- A Call for Help</dc:title>
</cp:coreProperties>
</file>